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975-4161-481A-98D1-CA3437EB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14A-EF11-4B53-987F-5CE6D48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FA3-9AD0-4BDB-9AA5-9CD02DBB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3CE-983E-44F8-BEB7-EEC45774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D7B-0A97-4A57-BB5F-B3AC3F21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ACF-77AB-45F2-AF84-E67ADF5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0BBC-E537-4438-80C7-F4CB331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3A12-DBAF-40BC-A073-6AB60C55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CA71-ECBE-4652-9903-1E847940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D02-ECE9-4C40-8258-7DF84687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B929-8F36-4092-8D7A-0897CA71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FF0-690C-4936-B244-80AA2380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0963-B62F-41B9-9A49-A7BA031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C09B-C55D-47EB-A84B-BF7CC990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A6D1-D727-498D-A624-B14256BE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F66-9A5F-4289-9B2B-1FD645AD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6F2-056B-40BC-994C-8BD827A3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476-C2FB-4CBD-8829-A0B90F32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74E-A2E4-4F47-BD0E-A51065A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9C9-129A-44D2-86F5-51D1DE4E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CE3-7A82-49BB-BE61-7C4F29F4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209-2929-4552-B424-4C3457DD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A8B-F29E-4391-8184-865FB689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871-F7EE-4B7C-AC80-E71A1623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B5FC-2E26-4C4B-9BF2-9E61B2A27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6F3-816A-443D-8F54-2232EB5979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755640" y="189000"/>
            <a:ext cx="7800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1ff47"/>
                </a:solidFill>
                <a:latin typeface="Monotype Corsiva"/>
              </a:rPr>
              <a:t>Антон  Павлович  Чехов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ff47"/>
                </a:solidFill>
                <a:latin typeface="Times New Roman"/>
              </a:rPr>
              <a:t>Очерк жизни и твор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ff47"/>
                </a:solidFill>
                <a:latin typeface="Times New Roman"/>
              </a:rPr>
              <a:t>писат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ff47"/>
                </a:solidFill>
                <a:latin typeface="Times New Roman"/>
              </a:rPr>
              <a:t>Художественное мастер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ff47"/>
                </a:solidFill>
                <a:latin typeface="Times New Roman"/>
              </a:rPr>
              <a:t>Чехова-рассказч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1ff47"/>
                </a:solidFill>
                <a:latin typeface="Times New Roman"/>
              </a:rPr>
              <a:t>Рассказ «О любв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050920" y="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3635280" y="3278160"/>
            <a:ext cx="2592360" cy="31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3905E-006 L -0.44757 -0.52329 E">
                                      <p:cBhvr>
                                        <p:cTn id="18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Кто самый внимательный?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116000" y="2193840"/>
            <a:ext cx="833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ком городе родился А. П. 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детей было в семье Чеховы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Чехов относился к своим родителя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е духовное наследство досталось детям от родителе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работал доктор 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е время суток Чехов оставлял для сочинительст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282680" y="5205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1ff47"/>
                </a:solidFill>
                <a:latin typeface="Times New Roman"/>
              </a:rPr>
              <a:t>Художественное мастерство</a:t>
            </a:r>
            <a:br>
              <a:rPr sz="4000"/>
            </a:br>
            <a:r>
              <a:rPr b="1" i="1" lang="ru-RU" sz="4000" spc="-1" strike="noStrike">
                <a:solidFill>
                  <a:srgbClr val="d1ff47"/>
                </a:solidFill>
                <a:latin typeface="Times New Roman"/>
              </a:rPr>
              <a:t>Чехова - рассказч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059120" y="3776760"/>
            <a:ext cx="4752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голов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юж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Художественная дет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Юм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д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2CA2T76E4CAH95HKNCAALFCVSCAVX23VGCAW0IIWKCAE384K6CA3A4Z5GCAGBFPQMCA2M7R7ZCAUTPWV2CAVRQFYICARBR3A9CAJCLBYECA4IYP4SCABDI5NXCACEQBW5CA1F85DCCA3O8XA3CAPVEITUCAGEOZ8W"/>
          <p:cNvPicPr/>
          <p:nvPr/>
        </p:nvPicPr>
        <p:blipFill>
          <a:blip r:embed="rId2"/>
          <a:stretch/>
        </p:blipFill>
        <p:spPr>
          <a:xfrm rot="546000">
            <a:off x="6516360" y="3933720"/>
            <a:ext cx="1801800" cy="25941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7"/>
          <p:cNvSpPr/>
          <p:nvPr/>
        </p:nvSpPr>
        <p:spPr>
          <a:xfrm>
            <a:off x="5460120" y="1916280"/>
            <a:ext cx="37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раткость – сестра тала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. П. 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291120" y="2637000"/>
            <a:ext cx="57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скусство писать – это искусство сокращ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. П. 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Заголовок рассказ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ffb7"/>
                </a:solidFill>
                <a:latin typeface="Times New Roman"/>
              </a:rPr>
              <a:t>имеет точное идейное звуч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 rot="20884800">
            <a:off x="1335240" y="278100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Хамеле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 rot="202800">
            <a:off x="2341440" y="393336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Злоумышленни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30520" y="24210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Тос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 rot="21343200">
            <a:off x="5866920" y="3573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част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 rot="1713600">
            <a:off x="7093080" y="285228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О любв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 rot="20545800">
            <a:off x="4862520" y="451296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еловек в футляр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 rot="1140600">
            <a:off x="1325520" y="50515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Толстый и тонк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1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4" dur="1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1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6" dur="1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1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Сюже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836280"/>
            <a:ext cx="760896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ffffb7"/>
                </a:solidFill>
                <a:latin typeface="Times New Roman"/>
              </a:rPr>
              <a:t>строится на остром, необычном по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mso9CFE3"/>
          <p:cNvPicPr/>
          <p:nvPr/>
        </p:nvPicPr>
        <p:blipFill>
          <a:blip r:embed="rId1"/>
          <a:stretch/>
        </p:blipFill>
        <p:spPr>
          <a:xfrm>
            <a:off x="3348000" y="1844640"/>
            <a:ext cx="3359160" cy="4392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3996720" y="6308640"/>
            <a:ext cx="185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Пересоли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Художественная детал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Times New Roman"/>
              </a:rPr>
              <a:t>заменяет многоречевые о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mso7AB29"/>
          <p:cNvPicPr/>
          <p:nvPr/>
        </p:nvPicPr>
        <p:blipFill>
          <a:blip r:embed="rId1"/>
          <a:stretch/>
        </p:blipFill>
        <p:spPr>
          <a:xfrm>
            <a:off x="2340000" y="1773360"/>
            <a:ext cx="3854520" cy="4608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0" y="3141720"/>
            <a:ext cx="216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алец Хрюк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то подня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вер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о опуще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547640" y="2781360"/>
            <a:ext cx="1441800" cy="216000"/>
          </a:xfrm>
          <a:prstGeom prst="rightArrow">
            <a:avLst>
              <a:gd name="adj1" fmla="val 50000"/>
              <a:gd name="adj2" fmla="val 16687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443640" y="2205000"/>
            <a:ext cx="243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фисков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рыжов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5867280" y="2421000"/>
            <a:ext cx="432000" cy="288720"/>
          </a:xfrm>
          <a:prstGeom prst="leftArrow">
            <a:avLst>
              <a:gd name="adj1" fmla="val 50000"/>
              <a:gd name="adj2" fmla="val 3740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21692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6300720" y="4076640"/>
            <a:ext cx="268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Шинель Очумел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то одев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о снимае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5724360" y="3573360"/>
            <a:ext cx="1440000" cy="360360"/>
          </a:xfrm>
          <a:prstGeom prst="leftArrow">
            <a:avLst>
              <a:gd name="adj1" fmla="val 50000"/>
              <a:gd name="adj2" fmla="val 999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2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3290040" y="64911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Хамеле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Юмо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7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1596600" y="755640"/>
            <a:ext cx="705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1ff47"/>
                </a:solidFill>
                <a:latin typeface="Times New Roman"/>
              </a:rPr>
              <a:t>- беззлобно-насмешливое отношение к чему-либ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1ff47"/>
                </a:solidFill>
                <a:latin typeface="Times New Roman"/>
              </a:rPr>
              <a:t>изображение героев в смешн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201120" y="630864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Лошадиная фамил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8" descr="image004"/>
          <p:cNvPicPr/>
          <p:nvPr/>
        </p:nvPicPr>
        <p:blipFill>
          <a:blip r:embed="rId2"/>
          <a:stretch/>
        </p:blipFill>
        <p:spPr>
          <a:xfrm>
            <a:off x="2700360" y="1844640"/>
            <a:ext cx="404028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45370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Подтекст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8960" y="2131560"/>
            <a:ext cx="371304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d1ff47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d1ff47"/>
                </a:solidFill>
                <a:latin typeface="Times New Roman"/>
              </a:rPr>
              <a:t>способ построения художественного текста, основанный  на несовпадении внешнего, прямого смысла слова, и его внутреннего зна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684600" cy="5472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5779080" y="59500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«Толстый и тон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1282680" y="5205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ahoma"/>
              </a:rPr>
              <a:t>Кто самый внимательный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94720" y="2060640"/>
            <a:ext cx="795780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ая фраза А. П. Чехова о лаконизме ста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ылат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и художественными приемами мастерс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ьзуется Чехов-рассказчи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такое подтекс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Рассказы  А. П. Чехова</a:t>
            </a:r>
            <a:br>
              <a:rPr sz="4400"/>
            </a:b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 о любв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40328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7CAY4V02PCAG0TFV0CAUW0MN5CAKRNRG3CA22IL15CAQ16Q9JCANG2Q1SCA41P8KBCA5B69IRCA1ACURQCAOFHQQ2CA225E59CA3IAFB5CAY3G4IQCAT626H7CA80BNHHCAVSUYT3CANM9PK2CANUZZEMCALKTDJ6"/>
          <p:cNvPicPr/>
          <p:nvPr/>
        </p:nvPicPr>
        <p:blipFill>
          <a:blip r:embed="rId2"/>
          <a:stretch/>
        </p:blipFill>
        <p:spPr>
          <a:xfrm>
            <a:off x="7529400" y="1268280"/>
            <a:ext cx="1614600" cy="2449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HCAS6I4LTCA6R9Y3CCA11140HCAT1R5MPCAHDGR7GCAZEI6LXCAGJM27SCAQAAZRPCAJH11VDCA2FC61OCAA9ITN0CAVAO3T2CAAX8G55CAKLIN3LCAC68L3DCAN9D8VVCA35OQEVCA65EYHACA3LWLT1CAE5IEEW"/>
          <p:cNvPicPr/>
          <p:nvPr/>
        </p:nvPicPr>
        <p:blipFill>
          <a:blip r:embed="rId3"/>
          <a:stretch/>
        </p:blipFill>
        <p:spPr>
          <a:xfrm>
            <a:off x="971640" y="4292640"/>
            <a:ext cx="1458720" cy="2274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PCA5I6S4SCAW04UGXCA7HXTX5CA680ETCCAGM3CC0CA9U64CECAJ7C6UPCAM0WW2FCA3UQZQJCAZYNPXNCA8H3U0TCAZNNQ6YCAXC2RMBCA8Z5PYUCARKAL4HCADWMME3CA206FDFCAZP2GWXCA1W2RODCA10O8D5"/>
          <p:cNvPicPr/>
          <p:nvPr/>
        </p:nvPicPr>
        <p:blipFill>
          <a:blip r:embed="rId4"/>
          <a:stretch/>
        </p:blipFill>
        <p:spPr>
          <a:xfrm>
            <a:off x="7164360" y="4200480"/>
            <a:ext cx="1320840" cy="210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XCAJZRPW8CA3LFU48CANIEJL1CAQTITR1CA49JKLECA5IS843CAJM5HTSCAG8ZNYWCAY0RYDQCAYV90NFCA8UEJBFCA47VACKCA3QOUSVCAE1R24QCAD1ML9ICAUGOWAMCATLFKEVCALG357TCAHUDZ38CAK85CZX"/>
          <p:cNvPicPr/>
          <p:nvPr/>
        </p:nvPicPr>
        <p:blipFill>
          <a:blip r:embed="rId5"/>
          <a:stretch/>
        </p:blipFill>
        <p:spPr>
          <a:xfrm>
            <a:off x="0" y="2276640"/>
            <a:ext cx="1544760" cy="2280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4"/>
          <p:cNvSpPr/>
          <p:nvPr/>
        </p:nvSpPr>
        <p:spPr>
          <a:xfrm>
            <a:off x="3292560" y="249228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Дама с собачко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2200320" y="328464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Же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2888640" y="42210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Душеч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4723920" y="47973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прыгун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5044680" y="3573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Ариад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900240" y="5661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 любв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Психологизм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2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1619280" y="333360"/>
            <a:ext cx="671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1ff47"/>
                </a:solidFill>
                <a:latin typeface="Times New Roman"/>
              </a:rPr>
              <a:t>- полное, подробное и глубокое изображение чувств и эмоций, мыслей и переживаний литературного геро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1332000" y="2349360"/>
            <a:ext cx="73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П. Чехов стремится в своих рассказах  проследить динамику человеческой души в разных ее проявлениях и во всей ее глубине. Его интересует обыденная, каждодневная жизнь обыкновенных людей. Но ведь обыденность и «творит личность», и Чехов стремится обратить внимание читателя на отдельные дни и часы «маленького» обывательского существования, осмыслить их и помочь человеку жить осознан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ого внимания, по мнению писателя, достойна душа влюбленного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216000"/>
            <a:ext cx="78120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Monotype Corsiva"/>
              </a:rPr>
              <a:t>Антон  Павлович  Чехов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763640" y="90792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860 -19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258920" y="2205000"/>
            <a:ext cx="788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 ненавижу ложь и насилие во всех видах… Моё святая святых – это человеческое тело, здоровье, ум, талант, вдохновение, любовь, абсолютная свобода, свобода от силы и лжи, в чём бы последние две ни выража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Антон Павлович Чехов о любви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1552320" y="213372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олько влюбленный имеет право на звание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988000" y="2852640"/>
            <a:ext cx="52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люблённость указывает челове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аким он должен быт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785880" y="421488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Я понял, что когда любишь, то в своих рассужден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 этой любви нужно исходить от высшего, от бол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ажного,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чем счастье или несчастье, грех или добродете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ли не нужно рассуждать вов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«Маленькая трилогия»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1" name="Picture 5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51080" cy="19162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-3600" y="1962000"/>
            <a:ext cx="403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Человек в футля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251280" y="3408480"/>
            <a:ext cx="27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Крыжовни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23640" y="4869000"/>
            <a:ext cx="21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О любв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4356000" y="2060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утляр от жизни, от свободы чувств и эмо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ак бы чего не вышло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3492360" y="3500280"/>
            <a:ext cx="50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утляр мелких чувств и интересов, физиологические интере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3427200" y="5013360"/>
            <a:ext cx="462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утляр от любв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каз от любви в угоду общеприня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743120" y="923760"/>
            <a:ext cx="65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(Трилогия о «футлярной жизни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6337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Рассказ «О любви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40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014"/>
          <p:cNvPicPr/>
          <p:nvPr/>
        </p:nvPicPr>
        <p:blipFill>
          <a:blip r:embed="rId2"/>
          <a:stretch/>
        </p:blipFill>
        <p:spPr>
          <a:xfrm>
            <a:off x="5292720" y="1268280"/>
            <a:ext cx="3581280" cy="4969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2"/>
          <p:cNvSpPr/>
          <p:nvPr/>
        </p:nvSpPr>
        <p:spPr>
          <a:xfrm>
            <a:off x="303120" y="272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732960" y="2349360"/>
            <a:ext cx="48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чему же герои Чех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тказываются от люб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Как к этому относится авт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267920" y="1989000"/>
            <a:ext cx="810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ть рассказ о Чехове-человеке, врач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те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читать рассказ А.П. Чехова «О любв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комиться со статьей «О героях расска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П. Чехова «О любви»(в учебнике с. 57-5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ить на вопросы (с. 58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зыв об одном из самостоятельно прочита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казов (по желанию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ff47"/>
                </a:solidFill>
                <a:latin typeface="Times New Roman"/>
              </a:rPr>
              <a:t>Дом в Таганроге, </a:t>
            </a:r>
            <a:br>
              <a:rPr sz="3200"/>
            </a:br>
            <a:r>
              <a:rPr b="1" i="1" lang="ru-RU" sz="3200" spc="-1" strike="noStrike">
                <a:solidFill>
                  <a:srgbClr val="d1ff47"/>
                </a:solidFill>
                <a:latin typeface="Times New Roman"/>
              </a:rPr>
              <a:t>в котором 17 (29) января1860 года родился А. П. Чехов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5" descr="ml_objects1079"/>
          <p:cNvPicPr/>
          <p:nvPr/>
        </p:nvPicPr>
        <p:blipFill>
          <a:blip r:embed="rId1"/>
          <a:stretch/>
        </p:blipFill>
        <p:spPr>
          <a:xfrm>
            <a:off x="1857240" y="2000160"/>
            <a:ext cx="6461280" cy="445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ff47"/>
                </a:solidFill>
                <a:latin typeface="Times New Roman"/>
              </a:rPr>
              <a:t>Родители писател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4" descr="ml_objects1077"/>
          <p:cNvPicPr/>
          <p:nvPr/>
        </p:nvPicPr>
        <p:blipFill>
          <a:blip r:embed="rId1"/>
          <a:stretch/>
        </p:blipFill>
        <p:spPr>
          <a:xfrm>
            <a:off x="5176800" y="2131920"/>
            <a:ext cx="314028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6" descr="ml_objects1078"/>
          <p:cNvPicPr/>
          <p:nvPr/>
        </p:nvPicPr>
        <p:blipFill>
          <a:blip r:embed="rId2"/>
          <a:stretch/>
        </p:blipFill>
        <p:spPr>
          <a:xfrm>
            <a:off x="1338120" y="2131920"/>
            <a:ext cx="297972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Text Box 9"/>
          <p:cNvSpPr/>
          <p:nvPr/>
        </p:nvSpPr>
        <p:spPr>
          <a:xfrm>
            <a:off x="4862880" y="6035760"/>
            <a:ext cx="385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вгения Яковлевна Чехо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ать пис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902520" y="6035760"/>
            <a:ext cx="33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авел Егорович Чех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тец пис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1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3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4"/>
          <p:cNvSpPr/>
          <p:nvPr/>
        </p:nvSpPr>
        <p:spPr>
          <a:xfrm>
            <a:off x="140328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ец и мать – единственные для меня люди…, для которых я никогда ничего не пожалею. Если я буду высоко стоять, то это дело 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b7"/>
                </a:solidFill>
                <a:latin typeface="Times New Roman"/>
              </a:rPr>
              <a:t>Семья Чеховых</a:t>
            </a:r>
            <a:br>
              <a:rPr sz="3600"/>
            </a:br>
            <a:r>
              <a:rPr b="1" i="1" lang="ru-RU" sz="3600" spc="-1" strike="noStrike">
                <a:solidFill>
                  <a:srgbClr val="ffffb7"/>
                </a:solidFill>
                <a:latin typeface="Times New Roman"/>
              </a:rPr>
              <a:t>(Из воспоминаний</a:t>
            </a:r>
            <a:br>
              <a:rPr sz="3600"/>
            </a:br>
            <a:r>
              <a:rPr b="1" i="1" lang="ru-RU" sz="3600" spc="-1" strike="noStrike">
                <a:solidFill>
                  <a:srgbClr val="ffffb7"/>
                </a:solidFill>
                <a:latin typeface="Times New Roman"/>
              </a:rPr>
              <a:t>сестры писател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Семья Чеховых.mpg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977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1785960" y="6488280"/>
            <a:ext cx="60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мья Чех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&quot;А. П. Чехов-студент.&quot;"/>
          <p:cNvPicPr/>
          <p:nvPr/>
        </p:nvPicPr>
        <p:blipFill>
          <a:blip r:embed="rId1"/>
          <a:stretch/>
        </p:blipFill>
        <p:spPr>
          <a:xfrm>
            <a:off x="1577880" y="3598920"/>
            <a:ext cx="1692360" cy="220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ml_objects1081"/>
          <p:cNvPicPr/>
          <p:nvPr/>
        </p:nvPicPr>
        <p:blipFill>
          <a:blip r:embed="rId2"/>
          <a:stretch/>
        </p:blipFill>
        <p:spPr>
          <a:xfrm>
            <a:off x="0" y="4697280"/>
            <a:ext cx="171468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l_objects1087"/>
          <p:cNvPicPr/>
          <p:nvPr/>
        </p:nvPicPr>
        <p:blipFill>
          <a:blip r:embed="rId3"/>
          <a:stretch/>
        </p:blipFill>
        <p:spPr>
          <a:xfrm>
            <a:off x="3413160" y="2352600"/>
            <a:ext cx="1709640" cy="21258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659240" y="500040"/>
            <a:ext cx="506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1ff47"/>
                </a:solidFill>
                <a:latin typeface="Times New Roman"/>
              </a:rPr>
              <a:t>Из воспоминаний И. А. Бун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a51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2415240" y="580536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84 году мордастей, независимей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419640" y="4724280"/>
            <a:ext cx="55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ту же приблизительно пору портрет, написанный братом: губастый, башкирский мал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364000" y="371628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90 году: красивость смел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много взгляда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ml_objects1082"/>
          <p:cNvPicPr/>
          <p:nvPr/>
        </p:nvPicPr>
        <p:blipFill>
          <a:blip r:embed="rId4"/>
          <a:stretch/>
        </p:blipFill>
        <p:spPr>
          <a:xfrm>
            <a:off x="5148360" y="1484280"/>
            <a:ext cx="1544400" cy="208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6732720" y="2565360"/>
            <a:ext cx="24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92 году: типичный земский доктор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1" descr="&quot;А. П. Чехов после возвращения из клиники с таксой Хиной. Мелихово.&quot;"/>
          <p:cNvPicPr/>
          <p:nvPr/>
        </p:nvPicPr>
        <p:blipFill>
          <a:blip r:embed="rId5"/>
          <a:stretch/>
        </p:blipFill>
        <p:spPr>
          <a:xfrm>
            <a:off x="6948360" y="333360"/>
            <a:ext cx="1667160" cy="2158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54000" y="184464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97 году: в пенсне, смотрит холодно, в упо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786320" y="6165720"/>
            <a:ext cx="710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 Чехова каждый год менялось лицо… В 79 году по оконча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имназии волосы на прямой ряд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5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6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1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571680" y="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ff47"/>
                </a:solidFill>
                <a:latin typeface="Times New Roman"/>
              </a:rPr>
              <a:t>Московский дом пис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Дом Чехова в Москве.mpg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5386680" cy="421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so8A7A1"/>
          <p:cNvPicPr/>
          <p:nvPr/>
        </p:nvPicPr>
        <p:blipFill>
          <a:blip r:embed="rId3"/>
          <a:stretch/>
        </p:blipFill>
        <p:spPr>
          <a:xfrm rot="21572400">
            <a:off x="4943160" y="801720"/>
            <a:ext cx="398448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ff47"/>
                </a:solidFill>
                <a:latin typeface="Times New Roman"/>
              </a:rPr>
              <a:t>Журналы, в которых А. П. Чехов печатал свои рассказ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13" descr="mso8A7A1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508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600" y="2421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трек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82520" y="306864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путни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52720" y="378936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Осколк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26880" y="45086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Вол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1640" y="531972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верч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52720" y="60930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Зрител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664680" y="227664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Развлеч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603840" y="3141720"/>
            <a:ext cx="25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Русский сатир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сто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445800" y="595008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Свет и тен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661440" y="47242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Будильни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4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032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so8A7A1"/>
          <p:cNvPicPr/>
          <p:nvPr/>
        </p:nvPicPr>
        <p:blipFill>
          <a:blip r:embed="rId1"/>
          <a:stretch/>
        </p:blipFill>
        <p:spPr>
          <a:xfrm>
            <a:off x="2484360" y="2997360"/>
            <a:ext cx="4392720" cy="3423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547280" y="6400800"/>
            <a:ext cx="64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рвые сборники рассказов А. П. Чех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63640" y="836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ff47"/>
                </a:solidFill>
                <a:latin typeface="Times New Roman"/>
              </a:rPr>
              <a:t>Псевдонимы А. П. Че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68360" y="28526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. Ч - 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7548840" y="2997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н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05560" y="4867200"/>
            <a:ext cx="33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рач без паци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-54000" y="357336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рат моего б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042160" y="501336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еловек без селезё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884640" y="395604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. Балда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300120" y="198900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нтоша Чехон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2" descr="ICAHZO0CTCAXW507ACA12E3M4CA007L38CACKFQ7ACAQL2JLNCA3HLBQSCA7EAVLXCA7TO86RCATO0MTJCATYT4YGCAQWOOY0CA5K5OOCCAFRBPR3CA4E2M3TCAQ6RM36CAFJ0NGRCAMWUSD2CASAH9QICANI4HJP"/>
          <p:cNvPicPr/>
          <p:nvPr/>
        </p:nvPicPr>
        <p:blipFill>
          <a:blip r:embed="rId2"/>
          <a:stretch/>
        </p:blipFill>
        <p:spPr>
          <a:xfrm>
            <a:off x="0" y="0"/>
            <a:ext cx="13017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</dc:creator>
  <dc:description/>
  <dc:language>en-US</dc:language>
  <cp:lastModifiedBy>Екатерина</cp:lastModifiedBy>
  <dcterms:modified xsi:type="dcterms:W3CDTF">2019-07-11T10:08:16Z</dcterms:modified>
  <cp:revision>35</cp:revision>
  <dc:subject/>
  <dc:title>PowerPoint Presentation</dc:title>
</cp:coreProperties>
</file>