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5.jpeg" ContentType="image/jpe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FEB40-DB41-4E70-807A-7DC4ACEE3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CB39B-75E7-404F-AB58-FF990AA43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2B57D-3BF0-44B9-9CEB-D4B2A2646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F43A8-E9E6-4F8B-B8FA-9310ACCB5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4D2F3-8DE6-4585-AA3B-4C01AF35E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9C652-83B4-4276-AF8B-34434F62D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B4932-F300-4454-BBD7-5C2F14673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B9E18-CE1B-4330-9E26-E11E12E02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E8386-5DF4-4B2A-AF60-FD7D37A1F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4B30B-C7FC-42F4-A82B-4C2F629AC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7862F-AFBA-40E2-BB70-BC6F41D30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F9C97-4B2F-4AD7-A91C-DD604FBDF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33662-28B5-4C07-8D87-44C28D223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8E8E6-43F3-4F59-BA54-24D3A2202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BA1BC-0A64-46E0-88A6-E3E9F24F5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B094D-ADB1-4730-A20C-650983D6D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FDC83-FDAB-4B48-8B90-2CC297358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3B9EB5-122B-45B2-BC6E-E00571BB2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71CB28-B7B4-4F2C-9D29-EC4241D04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B14215-6FA3-41CE-BDD5-F7AFF79CA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1D97AF-5D02-4304-88CF-1366413C0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5C8597-CDFE-4C94-A81B-619EC1C1F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5176C-078D-4916-872D-AB5E4E730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F6436E-15CE-459F-8E16-73AF98AEE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B126A0-C1B9-4A14-868C-989B7EDD0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C1AA47-F1EF-4036-8E7E-2D2BF64C1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685D9B-9C58-4737-AE3C-F53A5EE7A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AD22CD-76EB-4E42-B9DC-12305E074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4D138B-F5ED-475D-B622-4D80F8280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0AC3D3-463E-4E0E-B78C-32EC27221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8D7D49-69DD-484D-AC4A-E11992E1C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6206DE-C33F-49B1-8B2A-0BDD1547F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2D198E-59E3-4480-BBBA-F80B840D6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B5748-8095-44ED-894F-0C07E5D32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69A70B-933A-4B40-804C-5EAE42E3D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2DA1F5-5F82-4A36-B28C-81AA28F0C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ACCAFF-6265-4119-A61C-43469EF9A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0389A6-FDC4-4AE0-8D14-B1709296C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63BFD2-8A30-4197-BBB3-454225F2A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481323-527E-4F09-9947-AE515F56A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629D9B-A9A5-4FBC-8217-CB304DAAF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519227-7F9E-456E-9593-90F44D0FB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2D38F7-D96E-4B46-ACA6-32515909C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F8831B-3B8A-4012-AC0F-A806480D9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F3B13-75BE-41AD-A5F8-BE2E1C32B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B65790-06A9-402E-BBE2-35FEFFA69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AC0432-88F3-4171-BFB8-C9D424D66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1DA343-1343-42DC-8A0D-E021AB792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D6B369-7334-4609-AD62-67496E0E0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957B22-C6A6-46E9-8527-152959AD4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420DD1-7C2E-4F17-8E9F-321F49CB9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F479C6-4CAA-4904-B1D4-3D0734214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1E0DD7-F942-46FA-85D3-A00B051DC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8042B4-A3BD-46F0-AF3E-764EB5740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38AC02-1C03-4F08-8488-CE7DF47BA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E5FBD-B124-4ADE-A315-A703FBF6B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0482D1-F718-4B53-9E53-F2F6E44DA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EC5B93-D02F-4A58-B06B-53F1AF355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186EE4-18A8-4B88-B82C-C9C2CCAA1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381176-3283-4D19-8E51-93D7D7452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5EA23F-4F6B-4E64-8AB3-647211665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D16A5C-22B0-4CDD-BD63-B1AAE8028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C05C8F-260A-4F36-83EC-2A7BEA613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6EADA1-DC55-4FCF-8C55-0EFD465A0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A17889-C01F-4E80-870D-5F7C34B57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F98D4C-571E-42B4-9D81-FE25CE56C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772F7-C35C-4D57-95AA-A6E5D776B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0E60D0-E619-464A-90E1-4F026C2B7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D91732-22B9-4BEE-86AE-707597111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FD163C-28E8-48A5-B5EC-B65CB72EF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0DB632-7812-4215-9225-0A85F5349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4D0CCD-36FE-417D-8399-AC43E5320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335032-AA54-4ABF-9156-4FEF8AB3C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00279A-F806-4AF7-94F1-400A30C01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84529E-13FE-49F4-9044-E0134BF19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17492C-50FF-4E16-82DE-9C59F7DD5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E5C3A7-2A7C-4738-B3EC-1C98A7B0B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7524C-CCA6-43DD-ADA1-5BFCC53D7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0306B5-67E6-460D-A976-D564D68CE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6DDB98-8DED-4A5A-8AB2-7F65DF1E0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CC3F3F-E7D7-4CE2-B69D-5194A6DA2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F7A57D-14AA-4585-AC41-EE6D8F7B9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A6566E-DEC5-4010-87AA-57D2C490F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71194B-D089-4C45-8172-F4825E6C8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B91A3A-3240-41BD-85DF-BEECA6261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386222-14C9-4A0B-8035-C8C0EAEF2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64235C-ED90-4FAA-BFBA-DBD9DB846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D64FD0-DFDA-4F05-B020-F9E2131B8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94999-8C03-4A9B-976E-7728D55E7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D310DC-8653-4BAF-9CF1-AB6163C9B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A8FB2A-94B3-4DA0-961D-855F804B6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080C5E-6E97-4C31-B140-E25627579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A66E42-7778-4988-B7EB-22DD2E633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664837-6D35-4690-9D5C-5467CE2F6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4C1AC0-6DA8-4281-B76E-59A070DA4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BB1FF7-7206-49D5-9843-C24C144BB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84409-5392-4200-936C-AFF5F8237BE3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16"/>
            <p:cNvSpPr/>
            <p:nvPr/>
          </p:nvSpPr>
          <p:spPr>
            <a:xfrm>
              <a:off x="1694520" y="4952880"/>
              <a:ext cx="7449480" cy="48816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8160"/>
                <a:gd name="textAreaBottom" fmla="*/ 488520 h 48816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4280" y="5237640"/>
              <a:ext cx="9099720" cy="788760"/>
            </a:xfrm>
            <a:custGeom>
              <a:avLst/>
              <a:gdLst>
                <a:gd name="textAreaLeft" fmla="*/ 0 w 9099720"/>
                <a:gd name="textAreaRight" fmla="*/ 9100080 w 9099720"/>
                <a:gd name="textAreaTop" fmla="*/ 0 h 788760"/>
                <a:gd name="textAreaBottom" fmla="*/ 789120 h 78876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grpSp>
          <p:nvGrpSpPr>
            <p:cNvPr id="51" name="Полилиния 19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Полилиния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864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</p:grpSp>
        <p:pic>
          <p:nvPicPr>
            <p:cNvPr id="54" name="Прямая соединительная линия 20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B4B0D-9BF0-4A19-9567-DF9274B6A617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" name="Нашивка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FD4B5-5BAA-408E-959D-DA8D55572685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147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50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D8D6B-B8DB-4862-896E-AA81A420BFA2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9267E-A985-4397-B076-84BEE2B20158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35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238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4EC35-97FA-47FE-808B-0613F0EC4EFE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3F68C-D4FF-4A50-ACCD-11DB4F04FCBC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олилиния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Полилиния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323" name="Прямоугольный треугольник 16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Прямоугольный треугольник 16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326" name="Прямая соединительная линия 18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Нашивка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8" name="Нашивка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97399-3D7B-447F-88F6-EC4FAFAD875F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Заголовок 1" descr=""/>
          <p:cNvPicPr/>
          <p:nvPr/>
        </p:nvPicPr>
        <p:blipFill>
          <a:blip r:embed="rId1"/>
          <a:stretch/>
        </p:blipFill>
        <p:spPr>
          <a:xfrm>
            <a:off x="689040" y="1755720"/>
            <a:ext cx="8083440" cy="220032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464646"/>
                </a:solidFill>
                <a:latin typeface="Lucida Sans Unicode"/>
              </a:rPr>
              <a:t>Готовимся к сочинению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Пример-иллюстрация – это связанная с поставленной проблемой информация текста, которая сопровождается пояснениями, интерпретациями учащегося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9" name="Заголовок 1" descr=""/>
          <p:cNvPicPr/>
          <p:nvPr/>
        </p:nvPicPr>
        <p:blipFill>
          <a:blip r:embed="rId1"/>
          <a:stretch/>
        </p:blipFill>
        <p:spPr>
          <a:xfrm>
            <a:off x="231840" y="274680"/>
            <a:ext cx="8454960" cy="11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Ссылка на номера предложений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Автор стремится достучаться до читателей, </a:t>
            </a:r>
            <a:r>
              <a:rPr b="0" lang="ru-RU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трижды повторяя слово «одумайтесь» (предложения 11-13).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Этот призыв должен заставить каждого из нас изменить отношение к природе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1" name="Заголовок 1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Прямое цитирование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«Духовная жизнь мне представляется в тысячу раз богаче, чем жизнь внешняя, проявленная»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, – пишет Ш.А. Амонашвили. Действительно, внутри себя мы порой проживаем десятки и сотни жизней, принимаем решения, которые определяют наши поступки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3" name="Заголовок 1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Lucida Sans Unicode"/>
              </a:rPr>
              <a:t>Косвенное цитирование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 u="sng">
                <a:solidFill>
                  <a:srgbClr val="000000"/>
                </a:solidFill>
                <a:uFillTx/>
                <a:latin typeface="Lucida Sans Unicode"/>
              </a:rPr>
              <a:t>Автор подчеркивает, что, поддаваясь своим низменным потребностям, человек способствует саморазрушению. </a:t>
            </a:r>
            <a:r>
              <a:rPr b="0" lang="ru-RU" sz="2300" spc="-1" strike="noStrike">
                <a:solidFill>
                  <a:srgbClr val="000000"/>
                </a:solidFill>
                <a:latin typeface="Lucida Sans Unicode"/>
              </a:rPr>
              <a:t>Конечно же, очень важно найти тот внутренний стержень, который позволит противостоять злу и направить всю свою деятельность на совершенствование себя и мира вокруг нас. Способы отсылки к тексту Размышление над фактами, событиями, описываемыми в тексте Виктор Астафьев изображает мальчишек, которые спасают гусей, попавших в ледяной плен. В этом поступке не на словах, а на деле проявляется забота о наших братьях меньших. Действительно, далеко не каждый способен рисковать собой ради животных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5" name="Заголовок 1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Размышление над фактами, событиями, описываемыми в тексте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Виктор Астафьев изображает мальчишек, которые спасают гусей, попавших в ледяной плен.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В этом поступке не на словах, а на деле проявляется забота о наших братьях меньших. Действительно, далеко не каждый способен рисковать собой ради животных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7" name="Заголовок 1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Объект 3" descr=""/>
          <p:cNvPicPr/>
          <p:nvPr/>
        </p:nvPicPr>
        <p:blipFill>
          <a:blip r:embed="rId1"/>
          <a:stretch/>
        </p:blipFill>
        <p:spPr>
          <a:xfrm>
            <a:off x="457200" y="1463760"/>
            <a:ext cx="8229600" cy="4572000"/>
          </a:xfrm>
          <a:prstGeom prst="rect">
            <a:avLst/>
          </a:prstGeom>
          <a:ln w="0">
            <a:noFill/>
          </a:ln>
        </p:spPr>
      </p:pic>
      <p:pic>
        <p:nvPicPr>
          <p:cNvPr id="399" name="Заголовок 1" descr=""/>
          <p:cNvPicPr/>
          <p:nvPr/>
        </p:nvPicPr>
        <p:blipFill>
          <a:blip r:embed="rId2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400" name="Овал 4"/>
          <p:cNvSpPr/>
          <p:nvPr/>
        </p:nvSpPr>
        <p:spPr>
          <a:xfrm>
            <a:off x="3492360" y="3354480"/>
            <a:ext cx="2195640" cy="1549440"/>
          </a:xfrm>
          <a:prstGeom prst="ellipse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Lucida Sans Unicode"/>
              </a:rPr>
              <a:t>Связь между примерами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1" name="Нашивка 5"/>
          <p:cNvSpPr/>
          <p:nvPr/>
        </p:nvSpPr>
        <p:spPr>
          <a:xfrm>
            <a:off x="5937120" y="3716280"/>
            <a:ext cx="358920" cy="289080"/>
          </a:xfrm>
          <a:custGeom>
            <a:avLst/>
            <a:gdLst>
              <a:gd name="textAreaLeft" fmla="*/ 0 w 358920"/>
              <a:gd name="textAreaRight" fmla="*/ 359280 w 358920"/>
              <a:gd name="textAreaTop" fmla="*/ 0 h 289080"/>
              <a:gd name="textAreaBottom" fmla="*/ 289080 h 28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2960" y="0"/>
                </a:lnTo>
                <a:lnTo>
                  <a:pt x="21600" y="10800"/>
                </a:lnTo>
                <a:lnTo>
                  <a:pt x="12960" y="21600"/>
                </a:lnTo>
                <a:lnTo>
                  <a:pt x="0" y="21600"/>
                </a:lnTo>
                <a:lnTo>
                  <a:pt x="8640" y="10800"/>
                </a:lnTo>
                <a:close/>
              </a:path>
            </a:pathLst>
          </a:cu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2" name="Нашивка 6"/>
          <p:cNvSpPr/>
          <p:nvPr/>
        </p:nvSpPr>
        <p:spPr>
          <a:xfrm rot="10800000">
            <a:off x="2912760" y="3715920"/>
            <a:ext cx="360360" cy="289080"/>
          </a:xfrm>
          <a:custGeom>
            <a:avLst/>
            <a:gdLst>
              <a:gd name="textAreaLeft" fmla="*/ 0 w 360360"/>
              <a:gd name="textAreaRight" fmla="*/ 360720 w 360360"/>
              <a:gd name="textAreaTop" fmla="*/ 0 h 289080"/>
              <a:gd name="textAreaBottom" fmla="*/ 289080 h 28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2960" y="0"/>
                </a:lnTo>
                <a:lnTo>
                  <a:pt x="21600" y="10800"/>
                </a:lnTo>
                <a:lnTo>
                  <a:pt x="12960" y="21600"/>
                </a:lnTo>
                <a:lnTo>
                  <a:pt x="0" y="21600"/>
                </a:lnTo>
                <a:lnTo>
                  <a:pt x="8640" y="10800"/>
                </a:lnTo>
                <a:close/>
              </a:path>
            </a:pathLst>
          </a:cu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3" name=""/>
          <p:cNvGraphicFramePr/>
          <p:nvPr/>
        </p:nvGraphicFramePr>
        <p:xfrm>
          <a:off x="457200" y="1481040"/>
          <a:ext cx="8229600" cy="44910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36828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Публицистический текс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Художественный текс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</a:tr>
              <a:tr h="89064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Автор обращается к собственному опыту и вспоминает 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В центре внимания автора случай 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64260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Писатель не случайно приводит слова (кого): «Цитата»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Писатель изображает (кого, что) 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  <a:tr h="36828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Автор разделяет мнение (кого) 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Герой говорит: «Цитата»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64260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Публицист спорит (с кем) 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Стоит обратить внимание на мысли (слова, поступки) героя 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  <a:tr h="91692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Думаю, нужно обратить внимание на мысль о том, что 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Особого внимания заслуживает такая художественная деталь, как 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64260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Особого внимания заслуживает мнение автора о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Симпатии автора на стороне героя, который 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</a:tbl>
          </a:graphicData>
        </a:graphic>
      </p:graphicFrame>
      <p:pic>
        <p:nvPicPr>
          <p:cNvPr id="404" name="Заголовок 1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5" name=""/>
          <p:cNvGraphicFramePr/>
          <p:nvPr/>
        </p:nvGraphicFramePr>
        <p:xfrm>
          <a:off x="457200" y="1481040"/>
          <a:ext cx="8229600" cy="44863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36828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Публицистический текс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Художественный текс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</a:tr>
              <a:tr h="64260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Писатель хочет сказать, что 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Автор не случайно обращает наше внимание на 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61884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Этот пример показывает, что 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Поступок героя показывает, что 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  <a:tr h="64260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Смысл этого высказывания в том, что 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Слова (мысли) героя позволяют понять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91692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Эти слова убедительно доказывают, что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Я думаю, описанная ситуация заслуживает особого внимания, потому что …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  <a:tr h="64260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Я думаю, этим примером автор хотел показать 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Эти события автор описывает, чтобы 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64260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Приведённые слова содержат глубокий смысл …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</a:tbl>
          </a:graphicData>
        </a:graphic>
      </p:graphicFrame>
      <p:pic>
        <p:nvPicPr>
          <p:cNvPr id="406" name="Заголовок 1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«Цитата», – пишет автор, чтобы…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«Равнодушие – это паралич души, преждевременная смерть»,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– пишет А.П. Чехов, чтобы показать разрушительное влияние нравственной глухоты на внутренний мир человека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8" name="Заголовок 1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9" name=""/>
          <p:cNvGraphicFramePr/>
          <p:nvPr/>
        </p:nvGraphicFramePr>
        <p:xfrm>
          <a:off x="457200" y="1481040"/>
          <a:ext cx="8229600" cy="3571920"/>
        </p:xfrm>
        <a:graphic>
          <a:graphicData uri="http://schemas.openxmlformats.org/drawingml/2006/table">
            <a:tbl>
              <a:tblPr/>
              <a:tblGrid>
                <a:gridCol w="2819520"/>
                <a:gridCol w="5410080"/>
              </a:tblGrid>
              <a:tr h="64260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Смысловые отнош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Типовые конструкци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</a:tr>
              <a:tr h="64260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Противопоставл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Противопоставляя эти примеры (этих героев), автор показывает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64260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Сравнение, сопоставл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Сравнивая эти примеры (точки зрения, героев), мы можем увидеть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  <a:tr h="64260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Причи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Что стало причиной этих событий (поступков героя)? Об этом автор пишет далее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64260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Следствие, вывод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Это рассуждение приводит автора к выводу о том, что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  <a:tr h="64260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Уступ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Несмотря на то что все убеждены в правильности…, герой (автор) думает иначе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</a:tbl>
          </a:graphicData>
        </a:graphic>
      </p:graphicFrame>
      <p:pic>
        <p:nvPicPr>
          <p:cNvPr id="410" name="Заголовок 1" descr=""/>
          <p:cNvPicPr/>
          <p:nvPr/>
        </p:nvPicPr>
        <p:blipFill>
          <a:blip r:embed="rId1"/>
          <a:stretch/>
        </p:blipFill>
        <p:spPr>
          <a:xfrm>
            <a:off x="231840" y="128520"/>
            <a:ext cx="8454960" cy="16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Lucida Sans Unicode"/>
              </a:rPr>
              <a:t>Напишите сочинение по прочитанному тексту. 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Lucida Sans Unicode"/>
              </a:rPr>
              <a:t>Сформулируйте одну из проблем, поставленных автором текста. Прокомментируйте сформулированную проблему. 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Lucida Sans Unicode"/>
              </a:rPr>
              <a:t>Включите в комментарий два примера-иллюстрации из прочитанного текста, которые, по Вашему мнению, важны для понимания проблемы исходного текста (избегайте чрезмерного цитирования). Поясните значение каждого примера и укажите смысловую связь между ними. 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Lucida Sans Unicode"/>
              </a:rPr>
              <a:t>Сформулируйте позицию автора (рассказчика). 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Lucida Sans Unicode"/>
              </a:rPr>
              <a:t>Выразите своё отношение к позиции автора по проблеме исходного текста (согласие или несогласие) и обоснуйте его. 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Lucida Sans Unicode"/>
              </a:rPr>
              <a:t>Объём сочинения – не менее 150 слов.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3" name="Заголовок 1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Объект 3" descr=""/>
          <p:cNvPicPr/>
          <p:nvPr/>
        </p:nvPicPr>
        <p:blipFill>
          <a:blip r:embed="rId1"/>
          <a:stretch/>
        </p:blipFill>
        <p:spPr>
          <a:xfrm>
            <a:off x="433440" y="1347840"/>
            <a:ext cx="8283600" cy="4699080"/>
          </a:xfrm>
          <a:prstGeom prst="rect">
            <a:avLst/>
          </a:prstGeom>
          <a:ln w="0">
            <a:noFill/>
          </a:ln>
        </p:spPr>
      </p:pic>
      <p:pic>
        <p:nvPicPr>
          <p:cNvPr id="375" name="Заголовок 1" descr=""/>
          <p:cNvPicPr/>
          <p:nvPr/>
        </p:nvPicPr>
        <p:blipFill>
          <a:blip r:embed="rId2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Объект 3" descr=""/>
          <p:cNvPicPr/>
          <p:nvPr/>
        </p:nvPicPr>
        <p:blipFill>
          <a:blip r:embed="rId1"/>
          <a:stretch/>
        </p:blipFill>
        <p:spPr>
          <a:xfrm>
            <a:off x="438120" y="1481040"/>
            <a:ext cx="8272440" cy="4523040"/>
          </a:xfrm>
          <a:prstGeom prst="rect">
            <a:avLst/>
          </a:prstGeom>
          <a:ln w="0">
            <a:noFill/>
          </a:ln>
        </p:spPr>
      </p:pic>
      <p:pic>
        <p:nvPicPr>
          <p:cNvPr id="377" name="Заголовок 1" descr=""/>
          <p:cNvPicPr/>
          <p:nvPr/>
        </p:nvPicPr>
        <p:blipFill>
          <a:blip r:embed="rId2"/>
          <a:stretch/>
        </p:blipFill>
        <p:spPr>
          <a:xfrm>
            <a:off x="201600" y="262080"/>
            <a:ext cx="8485200" cy="201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8" name=""/>
          <p:cNvGraphicFramePr/>
          <p:nvPr/>
        </p:nvGraphicFramePr>
        <p:xfrm>
          <a:off x="457200" y="1481040"/>
          <a:ext cx="8229600" cy="44276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52668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Вопросительное предлож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Конструкция «Проблема чего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</a:tr>
              <a:tr h="168660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Какими должны быть отношения между родителями и детьми? Этой проблеме посвящён текст (ФИО автора)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Автор поднимает проблему отцов и детей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91692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Что такое настоящая дружба? Над этой проблемой размышляет автор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В центре внимания автора проблема дружб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  <a:tr h="129744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В чём заключается доброта? Такова проблема, которую рассматривает автор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(ФИО автора) предлагает нам задуматься над проблемой проявления доброты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</a:tbl>
          </a:graphicData>
        </a:graphic>
      </p:graphicFrame>
      <p:pic>
        <p:nvPicPr>
          <p:cNvPr id="379" name="Заголовок 1" descr=""/>
          <p:cNvPicPr/>
          <p:nvPr/>
        </p:nvPicPr>
        <p:blipFill>
          <a:blip r:embed="rId1"/>
          <a:stretch/>
        </p:blipFill>
        <p:spPr>
          <a:xfrm>
            <a:off x="231840" y="128520"/>
            <a:ext cx="8454960" cy="16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Объект 3" descr=""/>
          <p:cNvPicPr/>
          <p:nvPr/>
        </p:nvPicPr>
        <p:blipFill>
          <a:blip r:embed="rId1"/>
          <a:stretch/>
        </p:blipFill>
        <p:spPr>
          <a:xfrm>
            <a:off x="433440" y="1420920"/>
            <a:ext cx="8296200" cy="4626000"/>
          </a:xfrm>
          <a:prstGeom prst="rect">
            <a:avLst/>
          </a:prstGeom>
          <a:ln w="0">
            <a:noFill/>
          </a:ln>
        </p:spPr>
      </p:pic>
      <p:pic>
        <p:nvPicPr>
          <p:cNvPr id="381" name="Заголовок 1" descr=""/>
          <p:cNvPicPr/>
          <p:nvPr/>
        </p:nvPicPr>
        <p:blipFill>
          <a:blip r:embed="rId2"/>
          <a:stretch/>
        </p:blipFill>
        <p:spPr>
          <a:xfrm>
            <a:off x="231840" y="274680"/>
            <a:ext cx="8454960" cy="11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Объект 5" descr=""/>
          <p:cNvPicPr/>
          <p:nvPr/>
        </p:nvPicPr>
        <p:blipFill>
          <a:blip r:embed="rId1"/>
          <a:stretch/>
        </p:blipFill>
        <p:spPr>
          <a:xfrm>
            <a:off x="457200" y="1481040"/>
            <a:ext cx="8229600" cy="4572000"/>
          </a:xfrm>
          <a:prstGeom prst="rect">
            <a:avLst/>
          </a:prstGeom>
          <a:ln w="0">
            <a:noFill/>
          </a:ln>
        </p:spPr>
      </p:pic>
      <p:pic>
        <p:nvPicPr>
          <p:cNvPr id="383" name="Заголовок 3" descr=""/>
          <p:cNvPicPr/>
          <p:nvPr/>
        </p:nvPicPr>
        <p:blipFill>
          <a:blip r:embed="rId2"/>
          <a:stretch/>
        </p:blipFill>
        <p:spPr>
          <a:xfrm>
            <a:off x="231840" y="274680"/>
            <a:ext cx="8454960" cy="11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Комментарий – оценка прочитанного путем соотнесения содержания текста с личной точкой зрения читателя, его знаниями, собственным жизненным опытом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5" name="Заголовок 1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Объект 3" descr=""/>
          <p:cNvPicPr/>
          <p:nvPr/>
        </p:nvPicPr>
        <p:blipFill>
          <a:blip r:embed="rId1"/>
          <a:stretch/>
        </p:blipFill>
        <p:spPr>
          <a:xfrm>
            <a:off x="433440" y="1481040"/>
            <a:ext cx="8283600" cy="4523040"/>
          </a:xfrm>
          <a:prstGeom prst="rect">
            <a:avLst/>
          </a:prstGeom>
          <a:ln w="0">
            <a:noFill/>
          </a:ln>
        </p:spPr>
      </p:pic>
      <p:pic>
        <p:nvPicPr>
          <p:cNvPr id="387" name="Заголовок 1" descr=""/>
          <p:cNvPicPr/>
          <p:nvPr/>
        </p:nvPicPr>
        <p:blipFill>
          <a:blip r:embed="rId2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7-11T10:28:23Z</dcterms:created>
  <dc:creator>Екатерина</dc:creator>
  <dc:description/>
  <dc:language>en-US</dc:language>
  <cp:lastModifiedBy>Екатерина</cp:lastModifiedBy>
  <dcterms:modified xsi:type="dcterms:W3CDTF">2019-07-11T11:44:28Z</dcterms:modified>
  <cp:revision>8</cp:revision>
  <dc:subject/>
  <dc:title>Презентация PowerPoint</dc:title>
</cp:coreProperties>
</file>