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82B-B35E-480D-BC91-01EFE24D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E87B-FE7B-452C-9D18-E42BA991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7C11-8BC6-4096-B0BB-9C105A97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B254-BC4E-4BE0-81A6-BEF1D138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0B8D-DF21-4392-B218-FD1D9308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4070-2163-4F31-A6FF-6F28C080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CF96-5876-439D-B6CF-0F7EFB22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675D-8444-446A-B6AF-F128626F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8F0E-DA0B-4564-A287-3990AF85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0A80-BDE2-4401-8ED7-8362BF0C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55A9-6078-470F-AB75-EB5277B1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5C47-262C-4A9A-8791-17243ED4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DC5A-83CB-4416-BFB1-12AE6499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5F71-21E5-4BB2-8A6B-8B9CB2DA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5D7E-51DB-4356-9634-2BD0E9BC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24CC-56AA-4B88-AF03-BCFE0011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0DC2-4693-4075-B4D6-70611243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37CAC-FABC-4D6E-AB43-BFBCC927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95537-BD98-425E-937D-FE3480CA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BC553-6BE1-4792-AEF8-20CC8733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0C708-C015-476B-B7FA-AAC7945D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F718D-2F7D-4ADC-B161-3A814AE3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B501-BECD-4166-A99D-50A6E42D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A204B-1EE2-4486-B2AC-E2FFEE6C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E7BDA-235E-4345-82F7-88410ED8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6FEC3-5A92-4EC9-8C05-2A178928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43C37-AEA6-47BB-A32F-C98A7677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070C0-6C5F-4002-AADC-E4D2A1D9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69C84-CBA1-4BAA-8F3E-A83A9ECC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FD335-441D-4852-9791-F4B7CB2E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8FED6-D6DA-4055-A135-F12FB307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B25CF-71BE-4755-998E-DDB6A872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4871E-D7A1-4045-B5C6-4BE59C1D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FED-22CD-41BC-BE43-3EB0F63D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7151D-26EB-484A-B8B3-D1922B5D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E1158-E055-4BEE-840F-3DE545C3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65AE6-CC37-441D-A173-4D1B32EA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3E573-38A4-48A7-B65A-3D0C0E69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53EB9-E810-438D-B5BF-84CA50F9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21D1F-7558-4AB4-BEC7-BC996F51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E391D-4A5B-4FEF-94BB-F2077357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3295F-ECDA-45B0-B63E-E2036497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1AF06-2ECC-4095-A25E-325A30A7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E798E-62EF-4063-8BDB-20B277C6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2B94-C104-4268-BE01-52354030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35D6B-1310-4D49-B909-E43CF2EE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EEADD-AC80-4CB7-A838-0F2402BB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C2C2C-ECCD-4D5E-A98D-D911AF7F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4D289-E612-4EDD-BA5A-B3B9AFD6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47293-B1DD-43CB-8F10-5DDC962C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27E21-BCA3-467F-BEB6-D7117C36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53CB4-FA41-4BC0-8940-BF214B14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6590D-125D-4076-8720-3AA9B54D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6197D-FC5C-48E9-8802-87744096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95064-796A-4847-AD53-5EBA50F2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6E7-81AD-4FBD-9D83-FFF502FC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AD23B-47FF-4AAF-A061-E5AFC16A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763041-52D4-41FF-9685-BC1DF9B0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AD46E8-67F9-42D4-BD30-D806B8C0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B24561-294B-4D49-828F-E3FB9B44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9986EF-C878-4E49-9816-1FD67C74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346294-A859-4FEA-9B69-892D41C6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34FB3-9349-427D-A080-6F3D676C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4EB632-3871-4363-A853-CE53A231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94E8D6-E28C-4426-84D0-0533EBFE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B935DF-BAB5-44A9-A400-C67BBBEB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4AE-0445-4FD9-BFA1-EE6D0ED2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0B1DD3-1A96-4E08-82E9-411DDF4B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59481C-48DB-485D-9D79-1DD5D258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B7F10B-8549-48B4-ABF5-96A71935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24D9D-07B8-42D6-BB2C-31505B75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FEB79-EBC9-4B3F-9D00-F6F7CDD0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D349D-B664-49A9-97B4-6DCCDEFE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CFB54-EF07-4C28-ABD3-D797B9C5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F5A6D-8F1D-4654-B8B7-56311287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731D1-E9EA-4154-A116-D91C707B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1FA03-A35C-4F4C-935C-E608E236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270F-D762-4A2A-B5F7-E178090E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781E4-B407-42EF-98E2-EBCF6B25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A772B-6779-48A5-89AC-BEFF9088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15586-1DED-4BFD-A480-58B2EFD8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01499-E183-4494-BE58-BEEE9929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30D8D-37DB-4A8A-8581-E0883618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7436-7950-41A1-BB75-8DF29565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CF0A-FF4E-47F1-9D03-CF821061485D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CF70-CC93-4103-A924-F968F48EDC32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40F8-2ACB-453B-A7CE-5E528CE4C8A4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E374-5341-47FA-AB71-A1EC16E891E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D321-2507-4FB5-8692-EFF5B15AFE4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1C5B-F0FC-4331-BEF7-A91D5489AD5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2027-87D4-4537-96F1-8180641E4C4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39280" y="3141360"/>
            <a:ext cx="82090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7534c"/>
                </a:solidFill>
                <a:latin typeface="Century Gothic"/>
              </a:rPr>
              <a:t>СЛИТНОЕ, ДЕФИСНОЕ, РАЗДЕЛЬНОЕ </a:t>
            </a:r>
            <a:endParaRPr b="0" lang="en-US" sz="44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7534c"/>
                </a:solidFill>
                <a:latin typeface="Century Gothic"/>
              </a:rPr>
              <a:t>НАПИСАНИЕ СЛОВ</a:t>
            </a:r>
            <a:endParaRPr b="0" lang="en-US" sz="4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7534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250920" y="692280"/>
          <a:ext cx="8280360" cy="5832360"/>
        </p:xfrm>
        <a:graphic>
          <a:graphicData uri="http://schemas.openxmlformats.org/drawingml/2006/table">
            <a:tbl>
              <a:tblPr/>
              <a:tblGrid>
                <a:gridCol w="4176720"/>
                <a:gridCol w="4103640"/>
              </a:tblGrid>
              <a:tr h="5832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ЧТОБ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сою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Я зашёл,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чтобы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обсудить важную проблем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Какой сделать подарок,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чтобы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порадовать подругу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Я прошу,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чтобы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ты дал сов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. </a:t>
                      </a: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Б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нельзя убрать из предложения или переставить в другую часть предло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Простой союз </a:t>
                      </a: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ЧТОБ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можно заменить синонимичными составными союзами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ДЛЯ ТОГО ЧТОБЫ, С ТЕМ ЧТОБ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Я зашёл,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чтобы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обсудить с тобой важную проблему. = Я зашёл,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для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того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чтобы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обсудить с тобой важную проблем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ЧТО БЫ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 (местоимение    с частицей Б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Я спросил,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что бы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мне ещё прочитать на эту тем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Я хочу знать,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что бы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вы мне ещё посоветовал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Частицу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urier New"/>
                        </a:rPr>
                        <a:t>БЫ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можно убрать из предложения или переставить в другую часть предлож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Я спросил,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что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мне ещё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бы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прочитать на эту тем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Местоимение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urier New"/>
                        </a:rPr>
                        <a:t>ЧТ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можно  наполнить лексическим содержанием, заменить существительны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Я спросил,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какую статью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мне ещё  прочитать на эту тем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250920" y="260280"/>
          <a:ext cx="8712000" cy="6735960"/>
        </p:xfrm>
        <a:graphic>
          <a:graphicData uri="http://schemas.openxmlformats.org/drawingml/2006/table">
            <a:tbl>
              <a:tblPr/>
              <a:tblGrid>
                <a:gridCol w="2879640"/>
                <a:gridCol w="5832360"/>
              </a:tblGrid>
              <a:tr h="6735960"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ТОЖЕ, ТАКЖ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союз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Я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тоже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выполнил этот тес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Я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также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прочитал эту стать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. </a:t>
                      </a: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Ж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нельзя опустить или переставить в другую часть без искажения смысла предло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оюзы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ТОЖЕ, ТАКЖ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можно заменить союзом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поставив этот союз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в начало предложения: 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ТОЖЕ = 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ТАКЖЕ = 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Я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тоже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выполнил этот тест. –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И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я выполнил этот тес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ТО   Ж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(местоимение с частицей Ж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ТАК   Ж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(наречие с частицей Ж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Я писал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то же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сочинение, что и 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егодня на улице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так же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ветрено, как и вче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Частицу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urier New"/>
                        </a:rPr>
                        <a:t>Ж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можно отбросить  или переставить в другую часть предложения без искажения смысл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Я же писал то сочинение, что и 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Я писал то сочинение, что и 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К местоимению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Т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и наречию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ТА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можно задать вопрос: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очин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какое?)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то; ветрено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как?)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так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Местоимение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Т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можно заменить местоимением ЭТ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Я писал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это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же сочинение, что и 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аречию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ТА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обычно соответствует слово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КА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в предложении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ТАК ЖЕ…, К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Запомн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правописание следующих сочетаний слов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   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ТО ЖЕ…, ЧТО     ТОЧНО ТАК ЖЕ, К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   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СЁ ТАК ЖЕ      ТО ЖЕ САМ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СЁ ТО ЖЕ       ОДНО И ТО ЖЕ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         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1042920" y="1557360"/>
          <a:ext cx="7056360" cy="4527360"/>
        </p:xfrm>
        <a:graphic>
          <a:graphicData uri="http://schemas.openxmlformats.org/drawingml/2006/table">
            <a:tbl>
              <a:tblPr/>
              <a:tblGrid>
                <a:gridCol w="3384720"/>
                <a:gridCol w="3671640"/>
              </a:tblGrid>
              <a:tr h="4527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ЗАТО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сою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стретиться никак не удавалось,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зато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перезванивались част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оюз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ЗАТ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можно заменить союзом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ЗАТО = Н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стретиться никак не удавалось,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о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перезванивались част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ЗА   ТО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   (местоимение ТО   с предлогом З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Благодарю вас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за то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приглаш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е берись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за то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что тебе не по сил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Местоимение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Т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легко заменить существительным или прилагательны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е берись за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дело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что тебе не по сил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Благодарю вас за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любезно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приглаш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1258920" y="1341360"/>
          <a:ext cx="6616800" cy="5040360"/>
        </p:xfrm>
        <a:graphic>
          <a:graphicData uri="http://schemas.openxmlformats.org/drawingml/2006/table">
            <a:tbl>
              <a:tblPr/>
              <a:tblGrid>
                <a:gridCol w="3308400"/>
                <a:gridCol w="3308400"/>
              </a:tblGrid>
              <a:tr h="504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ПРИТОМ, ПРИЧЁМ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союз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оюзы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РИТОМ, ПРИЧЁ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имеют присоединительное значение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«К ТОМУ ЖЕ», «ВМЕСТЕ С ТЕМ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ам выдали новые пособия по ЕГЭ,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ричём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= вместе с тем)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предупредили, что они допущены ФИП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Работа шла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успешно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притом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= к тому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же)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быстр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ПРИ  ТОМ, ПРИ  ЧЁМ</a:t>
                      </a: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предлог с местоимение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 вопросе или в ответе ПРИ ЧЁМ пишется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раздельн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ри чём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здесь Петров? – Ни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ри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чём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ри том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доме есть веранда. = При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овом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доме есть веран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1116000" y="836640"/>
          <a:ext cx="6616800" cy="5638680"/>
        </p:xfrm>
        <a:graphic>
          <a:graphicData uri="http://schemas.openxmlformats.org/drawingml/2006/table">
            <a:tbl>
              <a:tblPr/>
              <a:tblGrid>
                <a:gridCol w="3308400"/>
                <a:gridCol w="3308400"/>
              </a:tblGrid>
              <a:tr h="563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ИТАК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сою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оюз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ИТА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пишется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слитн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употребляется в качестве вводного слова в значении «ПОДВОДЯ ИТОГ», «СЛЕДОВАТЕЛЬНО», «ВОЗВРАЩАЯСЬ К НАШЕМУ РАЗГОВОРУ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водное слово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ИТА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присоединяет предложение, которое содержит вывод, заключен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Итак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= следовательно)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продолжим ур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Итак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= подводя итог)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образ Кутузова является символом жизненной мудр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И  ТАК</a:t>
                      </a: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наречие с союзо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Мы устали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и так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как? в  какой степени? = очень)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замёрзли, что решили вернутьс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1263600" y="1341360"/>
          <a:ext cx="6616800" cy="4977000"/>
        </p:xfrm>
        <a:graphic>
          <a:graphicData uri="http://schemas.openxmlformats.org/drawingml/2006/table">
            <a:tbl>
              <a:tblPr/>
              <a:tblGrid>
                <a:gridCol w="3308400"/>
                <a:gridCol w="3308400"/>
              </a:tblGrid>
              <a:tr h="4977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ОТТОГО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союз = так ка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оюз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ОТТОГ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имеет значение причин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еудачи происходят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оттого, что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= так как)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не все достаточно серьёзно относятся к ежедневному труд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ОТ  ТОГО</a:t>
                      </a: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предлог с местоимение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Местоимение с предлогом легко заменяется сочетанием существительного с предлого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От того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= от поступка)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что он сделает, зависит очень много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b7d72"/>
                </a:solidFill>
                <a:uFillTx/>
                <a:latin typeface="Book Antiqua"/>
              </a:rPr>
              <a:t>III.  СЛИТНОЕ И РАЗДЕЛЬНОЕ ПРАВОПИСАНИЕ НАРЕЧИЙ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1.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Наречия, в состав которых входят слова, в современном русском языке не употребляющиеся: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вдребезги, натощак, исподтишка, исподлобья, вдогонку, дотла, запанибрата, насмарку, невпопад, понаслышке, спросонья, спозаранку, наспех, наугад, невдомёк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 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2.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Наречия, образованные соединением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ПО, ОТО, ПОСЛЕ, НА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с другими наречиями: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послезавтра (после +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завтра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), навсегда (на +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всегда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), наскоро (на +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скоро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), позавчера (по + за +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вчера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), навряд ли (на +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вряд ли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), отовсюду (ото +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всюду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)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3" name="Заголовок 1"/>
          <p:cNvSpPr/>
          <p:nvPr/>
        </p:nvSpPr>
        <p:spPr>
          <a:xfrm>
            <a:off x="46836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 Antiqua"/>
                <a:ea typeface="Arial"/>
              </a:rPr>
              <a:t>III.  СЛИТНОЕ И РАЗДЕЛЬНОЕ ПРАВОПИСАНИЕ НАРЕЧИ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Прямоугольник 4"/>
          <p:cNvSpPr/>
          <p:nvPr/>
        </p:nvSpPr>
        <p:spPr>
          <a:xfrm>
            <a:off x="971640" y="153972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СЛИТНО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  </a:t>
            </a:r>
            <a:r>
              <a:rPr b="1" lang="ru-RU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ПИШУТСЯ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3.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речия, оканчивающиеся на  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-УЮ: зачастую, вплотную, вручную, врассыпную, врукопашную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  </a:t>
            </a:r>
            <a:r>
              <a:rPr b="0" lang="ru-RU" sz="2400" spc="-1" strike="noStrike" u="sng">
                <a:solidFill>
                  <a:srgbClr val="564b3c"/>
                </a:solidFill>
                <a:uFillTx/>
                <a:latin typeface="Century Gothic"/>
              </a:rPr>
              <a:t>КРОМЕ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: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на боковую, на попятную, в открытую, на мировую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 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4.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речия с корнями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–верх-,    - низ-, -высь-, -глубь-, –даль-,  -век-, -начал-, -врем-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, если к ним нет пояснительных слов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·      </a:t>
            </a:r>
            <a:r>
              <a:rPr b="0" i="1" lang="ru-RU" sz="2400" spc="-1" strike="noStrike">
                <a:solidFill>
                  <a:srgbClr val="564b3c"/>
                </a:solidFill>
                <a:latin typeface="Century Gothic"/>
              </a:rPr>
              <a:t>Посмотрел 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наверх</a:t>
            </a:r>
            <a:r>
              <a:rPr b="0" i="1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(</a:t>
            </a:r>
            <a:r>
              <a:rPr b="0" lang="ru-RU" sz="2400" spc="-1" strike="noStrike" u="sng">
                <a:solidFill>
                  <a:srgbClr val="564b3c"/>
                </a:solidFill>
                <a:uFillTx/>
                <a:latin typeface="Century Gothic"/>
              </a:rPr>
              <a:t>нет пояснительного слова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)</a:t>
            </a:r>
            <a:r>
              <a:rPr b="0" i="1" lang="ru-RU" sz="2400" spc="-1" strike="noStrike">
                <a:solidFill>
                  <a:srgbClr val="564b3c"/>
                </a:solidFill>
                <a:latin typeface="Century Gothic"/>
              </a:rPr>
              <a:t> – посмотрел 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на верх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(</a:t>
            </a:r>
            <a:r>
              <a:rPr b="0" lang="ru-RU" sz="2400" spc="-1" strike="noStrike" u="sng">
                <a:solidFill>
                  <a:srgbClr val="564b3c"/>
                </a:solidFill>
                <a:uFillTx/>
                <a:latin typeface="Century Gothic"/>
              </a:rPr>
              <a:t>чего?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)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 колонны</a:t>
            </a:r>
            <a:r>
              <a:rPr b="0" i="1" lang="ru-RU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·      </a:t>
            </a:r>
            <a:r>
              <a:rPr b="0" i="1" lang="ru-RU" sz="2400" spc="-1" strike="noStrike">
                <a:solidFill>
                  <a:srgbClr val="564b3c"/>
                </a:solidFill>
                <a:latin typeface="Century Gothic"/>
              </a:rPr>
              <a:t>Подумай 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сначала</a:t>
            </a:r>
            <a:r>
              <a:rPr b="0" i="1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(</a:t>
            </a:r>
            <a:r>
              <a:rPr b="0" lang="ru-RU" sz="2400" spc="-1" strike="noStrike" u="sng">
                <a:solidFill>
                  <a:srgbClr val="564b3c"/>
                </a:solidFill>
                <a:uFillTx/>
                <a:latin typeface="Century Gothic"/>
              </a:rPr>
              <a:t>нет пояснительного слова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)</a:t>
            </a:r>
            <a:r>
              <a:rPr b="0" i="1" lang="ru-RU" sz="2400" spc="-1" strike="noStrike">
                <a:solidFill>
                  <a:srgbClr val="564b3c"/>
                </a:solidFill>
                <a:latin typeface="Century Gothic"/>
              </a:rPr>
              <a:t> – 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с</a:t>
            </a:r>
            <a:r>
              <a:rPr b="0" i="1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начала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(</a:t>
            </a:r>
            <a:r>
              <a:rPr b="0" lang="ru-RU" sz="2400" spc="-1" strike="noStrike" u="sng">
                <a:solidFill>
                  <a:srgbClr val="564b3c"/>
                </a:solidFill>
                <a:uFillTx/>
                <a:latin typeface="Century Gothic"/>
              </a:rPr>
              <a:t>чего?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)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 учебного года</a:t>
            </a:r>
            <a:r>
              <a:rPr b="0" i="1" lang="ru-RU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·      </a:t>
            </a:r>
            <a:r>
              <a:rPr b="0" i="1" lang="ru-RU" sz="2400" spc="-1" strike="noStrike">
                <a:solidFill>
                  <a:srgbClr val="564b3c"/>
                </a:solidFill>
                <a:latin typeface="Century Gothic"/>
              </a:rPr>
              <a:t>Смотрел 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вдаль</a:t>
            </a:r>
            <a:r>
              <a:rPr b="0" i="1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(</a:t>
            </a:r>
            <a:r>
              <a:rPr b="0" lang="ru-RU" sz="2400" spc="-1" strike="noStrike" u="sng">
                <a:solidFill>
                  <a:srgbClr val="564b3c"/>
                </a:solidFill>
                <a:uFillTx/>
                <a:latin typeface="Century Gothic"/>
              </a:rPr>
              <a:t>нет пояснительного слова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)</a:t>
            </a:r>
            <a:r>
              <a:rPr b="0" i="1" lang="ru-RU" sz="2400" spc="-1" strike="noStrike">
                <a:solidFill>
                  <a:srgbClr val="564b3c"/>
                </a:solidFill>
                <a:latin typeface="Century Gothic"/>
              </a:rPr>
              <a:t> – смотрел 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в даль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(</a:t>
            </a:r>
            <a:r>
              <a:rPr b="0" lang="ru-RU" sz="2400" spc="-1" strike="noStrike" u="sng">
                <a:solidFill>
                  <a:srgbClr val="564b3c"/>
                </a:solidFill>
                <a:uFillTx/>
                <a:latin typeface="Century Gothic"/>
              </a:rPr>
              <a:t>чего?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)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 горизонта</a:t>
            </a:r>
            <a:r>
              <a:rPr b="0" i="1" lang="ru-RU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5.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Наречия, образованные соединением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В, НА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с собирательными числительными: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втроём, всемером, надвое, втрое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  </a:t>
            </a:r>
            <a:r>
              <a:rPr b="0" lang="ru-RU" sz="2200" spc="-1" strike="noStrike" u="sng">
                <a:solidFill>
                  <a:srgbClr val="564b3c"/>
                </a:solidFill>
                <a:uFillTx/>
                <a:latin typeface="Century Gothic"/>
              </a:rPr>
              <a:t>ЗАПОМНИ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: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по двое, по трое, по одному, поодиночке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 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6.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Наречия с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В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и конечным слогом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КУ: вдогонку, всухомятку, вприпрыжку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  </a:t>
            </a:r>
            <a:r>
              <a:rPr b="0" lang="ru-RU" sz="2200" spc="-1" strike="noStrike" u="sng">
                <a:solidFill>
                  <a:srgbClr val="564b3c"/>
                </a:solidFill>
                <a:uFillTx/>
                <a:latin typeface="Century Gothic"/>
              </a:rPr>
              <a:t>ИСКЛЮЧЕНИЯ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: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в диковинку, в рассрочку, в насмешку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 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7.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Наречия, если приставкой и существительным, от которого образовано наречие, не может быть без изменения смысла вставлено прилагательное, числительное, местоимение: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вслух, назло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и др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 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8.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Наречия, образованные соединением предлогов-приставок с прилагательными: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подолгу (по + долгий), изредка (из + редкий), досыта (до + сытый), слева (с + левый), помногу (по + многий).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6b7d72"/>
                </a:solidFill>
                <a:latin typeface="Book Antiqua"/>
              </a:rPr>
              <a:t>РАЗДЕЛЬНО  ПИШУТС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1.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Наречия, если предлог-приставка оканчивается на согласную, а исходное слово начинается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на гласную букву: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в обход, в обтяжку, без оглядки, без удержу, в упор, в отместку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 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2.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Наречия на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–АХ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, обозначающие состояние, место, время: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в сердцах, в головах, в потёмках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и др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564b3c"/>
                </a:solidFill>
                <a:uFillTx/>
                <a:latin typeface="Century Gothic"/>
              </a:rPr>
              <a:t>КРОМЕ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: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впотьмах, второпях, впопыхах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 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3.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Наречия, правописание которых нужно запомнить: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до смерти, до упаду, на лету, с налёту, с лёту, на ходу, с размаху, с разбегу, на миг (НО вмиг), на скаку, на глазок, под силу, по двое, по трое, за границу, за границей, под мышкой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7d72"/>
                </a:solidFill>
                <a:latin typeface="Book Antiqua"/>
              </a:rPr>
              <a:t>I. </a:t>
            </a:r>
            <a:r>
              <a:rPr b="1" lang="ru-RU" sz="2900" spc="-1" strike="noStrike">
                <a:solidFill>
                  <a:srgbClr val="6b7d72"/>
                </a:solidFill>
                <a:latin typeface="Book Antiqua"/>
              </a:rPr>
              <a:t>ПРАВОПИСАНИЕ ПРОИЗВОДНЫХ ПРЕДЛОГОВ</a:t>
            </a:r>
            <a:endParaRPr b="0" lang="en-US" sz="29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68360" y="1484280"/>
          <a:ext cx="8137440" cy="4987800"/>
        </p:xfrm>
        <a:graphic>
          <a:graphicData uri="http://schemas.openxmlformats.org/drawingml/2006/table">
            <a:tbl>
              <a:tblPr/>
              <a:tblGrid>
                <a:gridCol w="3632040"/>
                <a:gridCol w="4505400"/>
              </a:tblGrid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роизводные предл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Имя существительное вместе с  непроизводным предлог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В ТЕЧЕНИ</a:t>
                      </a:r>
                      <a:r>
                        <a:rPr b="1" lang="ru-RU" sz="1800" spc="-1" strike="noStrike" u="sng">
                          <a:solidFill>
                            <a:srgbClr val="0033cc"/>
                          </a:solidFill>
                          <a:uFillTx/>
                          <a:latin typeface="Georgi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роизводный предлог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 ТЕЧЕ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пишется в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два слов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с конечной буквой </a:t>
                      </a: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имеет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значение временной протяжённост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отвечает на вопросы КАК ДОЛГО? КОГДА? Идущее за ним существительное имеет значение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времен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Как долго?)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 течени</a:t>
                      </a:r>
                      <a:r>
                        <a:rPr b="1" i="1" lang="ru-RU" sz="18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е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всего года усердно занимался. (Когда?)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течени</a:t>
                      </a:r>
                      <a:r>
                        <a:rPr b="1" i="1" lang="ru-RU" sz="18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е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лета прочитал много кни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В ТЕЧЕНИ</a:t>
                      </a:r>
                      <a:r>
                        <a:rPr b="1" lang="ru-RU" sz="1800" spc="-1" strike="noStrike" u="sng">
                          <a:solidFill>
                            <a:srgbClr val="c00000"/>
                          </a:solidFill>
                          <a:uFillTx/>
                          <a:latin typeface="Georgia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Между непроизводным предлогом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и существительным в предложном падеже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ТЕЧЕНИ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можно вставить прилагательно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 течени</a:t>
                      </a: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Courier New"/>
                        </a:rPr>
                        <a:t>и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реки много поворотов. – В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ижнем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течени</a:t>
                      </a:r>
                      <a:r>
                        <a:rPr b="0" i="1" lang="ru-RU" sz="1800" spc="-1" strike="noStrike">
                          <a:solidFill>
                            <a:srgbClr val="c00000"/>
                          </a:solidFill>
                          <a:latin typeface="Courier New"/>
                        </a:rPr>
                        <a:t>и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реки много поворо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еожиданные изменения произошли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течени</a:t>
                      </a: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Courier New"/>
                        </a:rPr>
                        <a:t>и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болезни. - Неожиданные изменения произошли в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ристально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изучаемом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течени</a:t>
                      </a:r>
                      <a:r>
                        <a:rPr b="0" i="1" lang="ru-RU" sz="1800" spc="-1" strike="noStrike">
                          <a:solidFill>
                            <a:srgbClr val="c00000"/>
                          </a:solidFill>
                          <a:latin typeface="Courier New"/>
                        </a:rPr>
                        <a:t>и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боле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b7d72"/>
                </a:solidFill>
                <a:uFillTx/>
                <a:latin typeface="Book Antiqua"/>
              </a:rPr>
              <a:t>IV.  </a:t>
            </a:r>
            <a:r>
              <a:rPr b="1" lang="ru-RU" sz="3200" spc="-1" strike="noStrike" u="sng">
                <a:solidFill>
                  <a:srgbClr val="6b7d72"/>
                </a:solidFill>
                <a:uFillTx/>
                <a:latin typeface="Book Antiqua"/>
              </a:rPr>
              <a:t>ДЕФИСНОЕ  НАПИСАНИЕ </a:t>
            </a:r>
            <a:br>
              <a:rPr sz="3200"/>
            </a:br>
            <a:r>
              <a:rPr b="1" lang="ru-RU" sz="3200" spc="-1" strike="noStrike" u="sng">
                <a:solidFill>
                  <a:srgbClr val="6b7d72"/>
                </a:solidFill>
                <a:uFillTx/>
                <a:latin typeface="Book Antiqua"/>
              </a:rPr>
              <a:t>НАРЕЧИЙ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Через дефис пишутся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 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1.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речия, образованные от местоимений и прилагательных с помощью приставки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ПО-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и оканчивающиеся на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–ОМУ, -ЕМУ, -ЦКИ, -СКИ, -ЬИ: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ыполнил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по-своему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, жить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по-новому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, кофе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по-турецки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, говорить      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по-итальянски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, выть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по-волчьи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     </a:t>
            </a:r>
            <a:r>
              <a:rPr b="0" lang="ru-RU" sz="2400" spc="-1" strike="noStrike" u="sng">
                <a:solidFill>
                  <a:srgbClr val="564b3c"/>
                </a:solidFill>
                <a:uFillTx/>
                <a:latin typeface="Century Gothic"/>
              </a:rPr>
              <a:t>ИСКЛЮЧЕНИЯ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: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по одному, поэтому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 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2.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речия, образованные от порядковых числительных (первый, второй и др.) с помощью приставок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В-, ВО-: во-первых, в-четвёртых,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в-сотых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3.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Наречия, образованные посредством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·      </a:t>
            </a:r>
            <a:r>
              <a:rPr b="0" i="1" lang="ru-RU" sz="2200" spc="-1" strike="noStrike">
                <a:solidFill>
                  <a:srgbClr val="564b3c"/>
                </a:solidFill>
                <a:latin typeface="Century Gothic"/>
              </a:rPr>
              <a:t>Повтора того же слова: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еле-еле, чуть-чуть, точь-в-точь, волей-неволей, видимо-невидимо, тет-а-тет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564b3c"/>
                </a:solidFill>
                <a:uFillTx/>
                <a:latin typeface="Century Gothic"/>
              </a:rPr>
              <a:t>ИСКЛЮЧЕНИЯ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: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бок о бок, с глазу на глаз, волк волком, честь честью, точка в точку, чудак чудаком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·      </a:t>
            </a:r>
            <a:r>
              <a:rPr b="0" i="1" lang="ru-RU" sz="2200" spc="-1" strike="noStrike">
                <a:solidFill>
                  <a:srgbClr val="564b3c"/>
                </a:solidFill>
                <a:latin typeface="Century Gothic"/>
              </a:rPr>
              <a:t>Повтора одного и того же корня, осложнённого приставкой или суффиксом: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крепко-накрепко, мало-помалу, видимо-невидимо, как-никак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·      </a:t>
            </a:r>
            <a:r>
              <a:rPr b="0" i="1" lang="ru-RU" sz="2200" spc="-1" strike="noStrike">
                <a:solidFill>
                  <a:srgbClr val="564b3c"/>
                </a:solidFill>
                <a:latin typeface="Century Gothic"/>
              </a:rPr>
              <a:t>Соединение синонимов: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нежданно-негаданно, подобру-поздорову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 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4.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Наречия, образованные с помощью приставки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КОЕ-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или суффиксов 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ТО-, ЛИБО-, НИБУДЬ-: </a:t>
            </a: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кое-как, где-нибудь, как-либо, куда-то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 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5. </a:t>
            </a: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На-гора выдать уголь; по-латыни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b7d72"/>
                </a:solidFill>
                <a:uFillTx/>
                <a:latin typeface="Book Antiqua"/>
              </a:rPr>
              <a:t>КОММЕНТАРИЙ К ПРАВОПИСАНИЮ НЕКОТОРЫХ СЛОВ, КОТОРЫЕ ВЫЗЫВАЮТ ОСОБЫЕ СЛОЖНОСТИ У ВЫПУСКНИКОВ ПРИ ВЫПОЛНЕНИИ ЭТОГО ЗАДАНИЯ (А 19)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95280" y="3789000"/>
            <a:ext cx="822960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1. КАК БУДТО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ишем в </a:t>
            </a:r>
            <a:r>
              <a:rPr b="0" lang="ru-RU" sz="2400" spc="-1" strike="noStrike" u="sng">
                <a:solidFill>
                  <a:srgbClr val="564b3c"/>
                </a:solidFill>
                <a:uFillTx/>
                <a:latin typeface="Century Gothic"/>
              </a:rPr>
              <a:t>два слова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, и </a:t>
            </a:r>
            <a:r>
              <a:rPr b="0" lang="ru-RU" sz="2400" spc="-1" strike="noStrike" u="sng">
                <a:solidFill>
                  <a:srgbClr val="564b3c"/>
                </a:solidFill>
                <a:uFillTx/>
                <a:latin typeface="Century Gothic"/>
              </a:rPr>
              <a:t>дефиса никакого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!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 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2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.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ВСЛЕДСТВИ</a:t>
            </a:r>
            <a:r>
              <a:rPr b="1" lang="ru-RU" sz="2400" spc="-1" strike="noStrike" u="sng">
                <a:solidFill>
                  <a:srgbClr val="564b3c"/>
                </a:solidFill>
                <a:uFillTx/>
                <a:latin typeface="Century Gothic"/>
              </a:rPr>
              <a:t>Е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(= из-за) – ясно вполне: </a:t>
            </a:r>
            <a:r>
              <a:rPr b="0" i="1" lang="ru-RU" sz="2400" spc="-1" strike="noStrike" u="sng">
                <a:solidFill>
                  <a:srgbClr val="564b3c"/>
                </a:solidFill>
                <a:uFillTx/>
                <a:latin typeface="Century Gothic"/>
              </a:rPr>
              <a:t>слитно</a:t>
            </a:r>
            <a:r>
              <a:rPr b="0" i="1" lang="ru-RU" sz="2400" spc="-1" strike="noStrike">
                <a:solidFill>
                  <a:srgbClr val="564b3c"/>
                </a:solidFill>
                <a:latin typeface="Century Gothic"/>
              </a:rPr>
              <a:t> всё напишем, конечная </a:t>
            </a:r>
            <a:r>
              <a:rPr b="1" i="1" lang="ru-RU" sz="2400" spc="-1" strike="noStrike" u="sng">
                <a:solidFill>
                  <a:srgbClr val="564b3c"/>
                </a:solidFill>
                <a:uFillTx/>
                <a:latin typeface="Century Gothic"/>
              </a:rPr>
              <a:t>Е</a:t>
            </a:r>
            <a:r>
              <a:rPr b="0" i="1" lang="ru-RU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3.</a:t>
            </a:r>
            <a:r>
              <a:rPr b="0" i="1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ТАК ЖЕ, ТО ЖЕ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пишутся в два слова в составе устойчивых выражений: ТО ЖЕ…, ЧТО; ТО ЖЕ САМОЕ; ОДНО И ТО ЖЕ; ТОЧНО ТАК ЖЕ, КАК; ВСЁ ТАК ЖЕ; ВСЁ ТО ЖЕ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4.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ТАК ЖЕ…, КАК…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раздельно пишет всяк, если дальше слово КАК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5.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ПРИ ЧЁМ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пишется в два слова в вопросе и в ответе: </a:t>
            </a:r>
            <a:r>
              <a:rPr b="0" i="1" lang="ru-RU" sz="2400" spc="-1" strike="noStrike">
                <a:solidFill>
                  <a:srgbClr val="564b3c"/>
                </a:solidFill>
                <a:latin typeface="Century Gothic"/>
              </a:rPr>
              <a:t>При чём здесь Петров? – Ни при чём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116000" y="1413000"/>
          <a:ext cx="7056360" cy="5089320"/>
        </p:xfrm>
        <a:graphic>
          <a:graphicData uri="http://schemas.openxmlformats.org/drawingml/2006/table">
            <a:tbl>
              <a:tblPr/>
              <a:tblGrid>
                <a:gridCol w="3308400"/>
                <a:gridCol w="3747960"/>
              </a:tblGrid>
              <a:tr h="5090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В ПРОДОЛЖЕНИ</a:t>
                      </a:r>
                      <a:r>
                        <a:rPr b="1" lang="ru-RU" sz="1800" spc="-1" strike="noStrike" u="sng">
                          <a:solidFill>
                            <a:srgbClr val="0033cc"/>
                          </a:solidFill>
                          <a:uFillTx/>
                          <a:latin typeface="Georgi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роизводный предлог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 ПРОДОЛЖЕ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пишется в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два слов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с конечной буквой </a:t>
                      </a: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имеет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значение временной протяжённост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отвечает на вопросы КАК ДОЛГО? КОГДА? Идущее за ним существительное имеет значение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времен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Как долго?)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 продолжени</a:t>
                      </a:r>
                      <a:r>
                        <a:rPr b="1" i="1" lang="ru-RU" sz="18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е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лета ремонтировали кухню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Когда?)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родолжени</a:t>
                      </a:r>
                      <a:r>
                        <a:rPr b="1" i="1" lang="ru-RU" sz="18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е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месяца стояла невыносимая жа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В ПРОДОЛЖЕНИ</a:t>
                      </a:r>
                      <a:r>
                        <a:rPr b="1" lang="ru-RU" sz="1800" spc="-1" strike="noStrike" u="sng">
                          <a:solidFill>
                            <a:srgbClr val="c00000"/>
                          </a:solidFill>
                          <a:uFillTx/>
                          <a:latin typeface="Georgia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Между непроизводным предлогом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и существительным в предложном падеже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РОДО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Ж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ЕНИ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можно вставить прилагательно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 течени</a:t>
                      </a: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Courier New"/>
                        </a:rPr>
                        <a:t>и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реки много поворотов. – В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ижнем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течени</a:t>
                      </a:r>
                      <a:r>
                        <a:rPr b="0" i="1" lang="ru-RU" sz="1800" spc="-1" strike="noStrike">
                          <a:solidFill>
                            <a:srgbClr val="c00000"/>
                          </a:solidFill>
                          <a:latin typeface="Courier New"/>
                        </a:rPr>
                        <a:t>и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реки много поворо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овые персонажи появились в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родолжени</a:t>
                      </a: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Courier New"/>
                        </a:rPr>
                        <a:t>и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романа. - Новые персонажи появились в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долгожданном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продолжени</a:t>
                      </a: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Courier New"/>
                        </a:rPr>
                        <a:t>и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рома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1116000" y="1407960"/>
          <a:ext cx="7201080" cy="4829400"/>
        </p:xfrm>
        <a:graphic>
          <a:graphicData uri="http://schemas.openxmlformats.org/drawingml/2006/table">
            <a:tbl>
              <a:tblPr/>
              <a:tblGrid>
                <a:gridCol w="3308400"/>
                <a:gridCol w="3892680"/>
              </a:tblGrid>
              <a:tr h="4829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НАВСТРЕЧУ  (= 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роизводный предлог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АВСТРЕЧУ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пишется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 одно слов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имеет значение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«в мою сторону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его можно заменить непроизводным предлогом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австречу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мн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= ко мне, в мою сторону)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шёл учител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Я решил выйти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австречу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гостям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= к гостям)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НА ВСТРЕЧУ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Между непроизводным предлогом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и существительным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СТРЕЧУ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можно вставить прилагательно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при этом при существительном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СТРЕЧ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обязательно должен быть предлог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Я всё-таки решил пойти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а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стречу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с друзья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Я всё-таки решил пойти на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неожиданную, незапланированную)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встречу с друзья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826920" y="476280"/>
          <a:ext cx="7632720" cy="6188040"/>
        </p:xfrm>
        <a:graphic>
          <a:graphicData uri="http://schemas.openxmlformats.org/drawingml/2006/table">
            <a:tbl>
              <a:tblPr/>
              <a:tblGrid>
                <a:gridCol w="4176720"/>
                <a:gridCol w="3456000"/>
              </a:tblGrid>
              <a:tr h="6188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ВВИДУ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 (=ИЗ-ЗА; ПО ПРИЧИН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роизводный предлог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ВИДУ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пишется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 одно слов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его можно заменить непроизводным предлогом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ИЗ-ЗА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или производным предлогом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О ПРИЧИН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виду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= из-за дождя)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экскурсия не состоялась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Примеча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 От производного предлога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ВИДУ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который пишется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 одно слов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и заменяется непроизводным предлогом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ИЗ-ЗА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следует отличать производный предлог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 ВИДЕ ЧЕГО-ЛИБ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который пишется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 два слов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Ей подарили брошку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 виде стрекозы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Разрешили дописать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 виде исключения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ИМЕТЬ  В  ВИДУ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Устойчивое сочетание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МЕТЬ  В  ВИДУ 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ишетс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в три слов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539640" y="1353960"/>
          <a:ext cx="8137800" cy="5243760"/>
        </p:xfrm>
        <a:graphic>
          <a:graphicData uri="http://schemas.openxmlformats.org/drawingml/2006/table">
            <a:tbl>
              <a:tblPr/>
              <a:tblGrid>
                <a:gridCol w="4105440"/>
                <a:gridCol w="4032360"/>
              </a:tblGrid>
              <a:tr h="289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НАСЧЁТ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(= О;  О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роизводный предлог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АСЧЁТ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ишется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литн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и может быть заменён непроизводным предлогом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ОБ(О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Мы договорились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асчёт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= о)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дополнительной консульт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НА  СЧЁ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Между непроизводным предлогом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и существительным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ЧЁ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можно вставить прилагательно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Деньги поступили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а счёт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благотворительного фон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Деньги поступили на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сем известный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счёт благотворительного фон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НАПОДОБИЕ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(= ВРОД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роизводный предлог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АПОДОБ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ишется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 одно слов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и может быть заменён непроизводным предлогом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РОД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Мы соорудили что-то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аподобие   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= вроде)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шалаш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НА  ПОДОБ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а уроках геометрии мы успешно решали задачи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а подобие треугольников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= на подобные треугольники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b7d72"/>
                </a:solidFill>
                <a:uFillTx/>
                <a:latin typeface="Book Antiqua"/>
              </a:rPr>
              <a:t>ПРИМЕЧАНИЯ</a:t>
            </a: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: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1.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роизводный предлог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В СВЯЗИ С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пишется раздельно, </a:t>
            </a:r>
            <a:r>
              <a:rPr b="0" lang="ru-RU" sz="2200" spc="-1" strike="noStrike" u="sng">
                <a:solidFill>
                  <a:srgbClr val="564b3c"/>
                </a:solidFill>
                <a:uFillTx/>
                <a:latin typeface="Century Gothic"/>
              </a:rPr>
              <a:t>в три слова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: </a:t>
            </a: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в связи с отъездом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2.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роизводный предлог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В ЗАКЛЮЧЕНИ</a:t>
            </a:r>
            <a:r>
              <a:rPr b="1" lang="ru-RU" sz="2200" spc="-1" strike="noStrike" u="sng">
                <a:solidFill>
                  <a:srgbClr val="564b3c"/>
                </a:solidFill>
                <a:uFillTx/>
                <a:latin typeface="Century Gothic"/>
              </a:rPr>
              <a:t>Е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пишется </a:t>
            </a:r>
            <a:r>
              <a:rPr b="0" lang="ru-RU" sz="2200" spc="-1" strike="noStrike" u="sng">
                <a:solidFill>
                  <a:srgbClr val="564b3c"/>
                </a:solidFill>
                <a:uFillTx/>
                <a:latin typeface="Century Gothic"/>
              </a:rPr>
              <a:t>в два слова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с буквой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Е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на конце и имеет значение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«ЗАВЕРШАЯ», «В ИТОГЕ», «ПОД КОНЕЦ»: </a:t>
            </a: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В заключени</a:t>
            </a:r>
            <a:r>
              <a:rPr b="1" i="1" lang="ru-RU" sz="2200" spc="-1" strike="noStrike" u="sng">
                <a:solidFill>
                  <a:srgbClr val="564b3c"/>
                </a:solidFill>
                <a:uFillTx/>
                <a:latin typeface="Century Gothic"/>
              </a:rPr>
              <a:t>е</a:t>
            </a: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 (= под конец) </a:t>
            </a:r>
            <a:r>
              <a:rPr b="0" i="1" lang="ru-RU" sz="2200" spc="-1" strike="noStrike">
                <a:solidFill>
                  <a:srgbClr val="564b3c"/>
                </a:solidFill>
                <a:latin typeface="Century Gothic"/>
              </a:rPr>
              <a:t>доклада подытожу сказанное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3.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роизводный предлог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В ОТЛИЧИ</a:t>
            </a:r>
            <a:r>
              <a:rPr b="1" lang="ru-RU" sz="2200" spc="-1" strike="noStrike" u="sng">
                <a:solidFill>
                  <a:srgbClr val="564b3c"/>
                </a:solidFill>
                <a:uFillTx/>
                <a:latin typeface="Century Gothic"/>
              </a:rPr>
              <a:t>Е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от кого-то, чего-то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пишется </a:t>
            </a:r>
            <a:r>
              <a:rPr b="0" lang="ru-RU" sz="2200" spc="-1" strike="noStrike" u="sng">
                <a:solidFill>
                  <a:srgbClr val="564b3c"/>
                </a:solidFill>
                <a:uFillTx/>
                <a:latin typeface="Century Gothic"/>
              </a:rPr>
              <a:t>в два слова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с буквой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Е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на конце: </a:t>
            </a: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В отличие от меня</a:t>
            </a:r>
            <a:r>
              <a:rPr b="0" i="1" lang="ru-RU" sz="2200" spc="-1" strike="noStrike">
                <a:solidFill>
                  <a:srgbClr val="564b3c"/>
                </a:solidFill>
                <a:latin typeface="Century Gothic"/>
              </a:rPr>
              <a:t>, сестра – отличница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4. Запомни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равописание следующих предлогов, которые пишутся </a:t>
            </a:r>
            <a:r>
              <a:rPr b="1" lang="ru-RU" sz="2200" spc="-1" strike="noStrike" u="sng">
                <a:solidFill>
                  <a:srgbClr val="564b3c"/>
                </a:solidFill>
                <a:uFillTx/>
                <a:latin typeface="Century Gothic"/>
              </a:rPr>
              <a:t>слитно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: ПОСЕРЕДИНЕ комнаты, ВБЛИЗИ памятника, ВМЕСТО сестры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5. РАЗЛИЧАЙТЕ: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24000" y="1268280"/>
          <a:ext cx="8424720" cy="4973760"/>
        </p:xfrm>
        <a:graphic>
          <a:graphicData uri="http://schemas.openxmlformats.org/drawingml/2006/table">
            <a:tbl>
              <a:tblPr/>
              <a:tblGrid>
                <a:gridCol w="4537080"/>
                <a:gridCol w="3887640"/>
              </a:tblGrid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РОИЗВОДНЫЙ  ПРЕД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ДЕЕПРИЧАС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1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НЕСМОТРЯ  НА (НЕВЗИРАЯ Н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роизводный предлог НЕСМОТР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пишется с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слитн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и состоит из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двух сл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его можно заменить словами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ХОТЯ, ВОПРЕКИ чему-т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ошли в город,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есмотря на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дождь. - Пошли в город,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хотя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был дожд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есмотря на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конец сентября, солнце жгло невыносимо. –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Хотя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был конец сентября, солнце жгло невыносим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ел писать сочинение,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есмотря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а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усталость. - Сел писать сочинение,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опреки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устал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НЕ  СМОТРЯ (НЕ ВЗИР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Деепричастие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Е СМОТР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можно заменить другим деепричастием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ГЛЯД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</a:t>
                      </a: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Деепричастие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Е СМОТР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относится к глаголу и отвечает на вопросы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КАК?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ЧТО ДЕЛАЯ?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Шёл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как?)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е смотря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= не глядя)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на прохожих и думал о своё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Играл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как?)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е смотря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= не глядя)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на клавиши, и этим поражал всех слуш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6b7d72"/>
                </a:solidFill>
                <a:uFillTx/>
                <a:latin typeface="Book Antiqua"/>
              </a:rPr>
              <a:t>II. ПРАВОПИСАНИЕ СОЮЗОВ И ОМОНИМИЧНЫХ ЧАСТЕЙ РЕЧИ</a:t>
            </a:r>
            <a:endParaRPr b="0" lang="en-US" sz="2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оюзы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ЧТОБЫ, ТОЖЕ, ТАКЖЕ, ЗАТО, ПРИТОМ, ПРИЧЁМ, ИТАК, ОТТОГО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ишутся </a:t>
            </a:r>
            <a:r>
              <a:rPr b="1" lang="ru-RU" sz="2400" spc="-1" strike="noStrike" u="sng">
                <a:solidFill>
                  <a:srgbClr val="564b3c"/>
                </a:solidFill>
                <a:uFillTx/>
                <a:latin typeface="Century Gothic"/>
              </a:rPr>
              <a:t>слитно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, их можно заменить синонимами той же части речи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ходные с этими союзами по звучанию слова других частей речи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ЧТО БЫ, ТО ЖЕ, ТАК ЖЕ, ЗА ТО, ПРИ ТОМ, ПРИ ЧЁМ, И ТАК, ОТ ТОГО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ишутся </a:t>
            </a:r>
            <a:r>
              <a:rPr b="1" lang="ru-RU" sz="2400" spc="-1" strike="noStrike" u="sng">
                <a:solidFill>
                  <a:srgbClr val="564b3c"/>
                </a:solidFill>
                <a:uFillTx/>
                <a:latin typeface="Century Gothic"/>
              </a:rPr>
              <a:t>раздельно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. Они состоят из двух компонентов: один из них можно либо убрать из предложения, либо между этими двумя компонентами вставить другое слово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5T03:22:31Z</dcterms:created>
  <dc:creator>Катика</dc:creator>
  <dc:description/>
  <dc:language>en-US</dc:language>
  <cp:lastModifiedBy>Екатерина</cp:lastModifiedBy>
  <dcterms:modified xsi:type="dcterms:W3CDTF">2019-07-11T09:50:21Z</dcterms:modified>
  <cp:revision>9</cp:revision>
  <dc:subject/>
  <dc:title>А 19</dc:title>
</cp:coreProperties>
</file>