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ADB-8A31-42F2-B308-510E9E6A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67D-CBDA-4539-BFFA-F89A5CC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41E-EC11-4C74-AB7C-67B8232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A07-BEA0-46B0-8816-A4DCBE0E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EB0-096F-484C-99C1-074EED00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270-5604-4FF1-8023-78A245E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1E11-0028-488A-B9A7-9AD9EB6E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51D-C717-430C-9480-E9B3D105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2358-446C-4C20-9289-62CDFB7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70E-31C4-455E-A7DB-C58A603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2D86-DB75-4D0C-89F9-A5DD798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D3D-5CE2-4AAC-8EE9-A52B9C2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AC12-752C-4056-B34E-8C9073E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4728-366D-4968-8871-AD2B76C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2CE2-7BB4-4382-A518-31425A4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D83-4383-488A-93B8-2E791B63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00DA-2836-4503-81D4-28E6575E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50C4-5E52-4C04-84D2-5A80E6F0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F066-7C7B-4DD5-B4CE-8163DD0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D0D3-E802-4303-851E-40556167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DF40A-77EE-45F7-AB8D-BAA2152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0DB5-1D1D-49D9-8424-C1BE0CC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156-C915-46F5-9D40-09032AB9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E8E7-A022-4B6D-97FA-E0C6D38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22CD-3133-472B-8086-C677F33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F5A4-FF9C-4DA7-B46E-6074F13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3F8C-7B17-4C11-B73A-4CF8ADF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DC3A-BBD9-4F7D-9462-7FBEBCF7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970CB-4FC6-48A3-8402-7A1598B9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E905-9C09-404C-AAF4-18C85242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2C784-9DC9-4903-8D8A-4FDD2980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5E964-2F5C-49A9-B2A5-0EACCC3B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45A8-2BE2-40B9-82AE-ED062198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51E-0105-4EC2-87B7-E543780E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7659-DD37-482D-8E25-F98B07BF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18BDE-F76A-4CB5-8DDF-1C10947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DE53-2720-41F0-8C02-7EC688F0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0F46-2A20-4029-99EA-962E970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6370-A73B-405A-87DC-CFE5C36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62F5-3017-46AB-A3D2-6A456EC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CD41-DD29-4085-8F72-C5822114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300A9-22E4-401A-8068-B40AB622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2D72-203F-4C08-9289-48E022FC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7EF6-A80C-474F-B76E-0CBDAB97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AB2-426C-4EB6-89E4-39FF5289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0E11-ADDE-4895-970D-2C80F57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65CF5-E12B-42DD-8EDC-B396B201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332C5-A188-4F0E-A5F3-67763A38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A2A8-3C63-4BD0-9480-0262EB8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3BA16-B55D-451A-A4FF-E1C81084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67302-7DD7-4592-A015-7548251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E1330-095A-43EB-9012-D79AE03E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0B28-B385-4004-B51A-72ED2107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BBA5-F560-4A83-86C1-3149EBD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20DE-7164-40EB-B8E4-138ABE71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DC8-06DA-4447-8EC3-B97F9923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263A1-6E66-4B16-8B30-A754CCA5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D25-7F23-4ABE-B7BF-8C1FFBDC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C47-3AA8-4D54-9FE5-BF0F7DA5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E20-0C64-4253-8627-3700710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5FA-BCB7-443E-B8B0-81298E06564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297D-3A31-461A-9E53-9F6195D1F98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8438-3607-4CB3-967E-1020440B423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FC4A-992D-4CA6-9D91-3CCD6243769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732-5D23-44A7-A7AA-58711ACD136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212920" y="1859040"/>
            <a:ext cx="66931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474040" cy="2749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29998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на прилага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рогая книг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стоимения-прилага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моей книг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астия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улыбающийся ребёно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рядковые числи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торого сорт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44440" y="225360"/>
            <a:ext cx="8442360" cy="2462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на существи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упить книгу, войти в комнату, кровать больног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стоимения-существи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ссориться с ни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личественные числительны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стретился с троим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44440" y="274680"/>
            <a:ext cx="8442360" cy="1987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речия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риехать вчер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финитив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ыйти освежитьс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епричастие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идти прихрамыва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7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рамматическая основа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ришла зим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нородные члены предложения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красный и зелёны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четание самостоятельной и служебной частей речи (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в лесу, несмотря на метель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7454880" cy="1425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Определи тип подчинительной связ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части поясня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ше счасть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дёжно упрят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рой каж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на) чьих-то зуба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уда де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же привы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5:03:40Z</dcterms:created>
  <dc:creator>IgnatievaE</dc:creator>
  <dc:description/>
  <dc:language>en-US</dc:language>
  <cp:lastModifiedBy>Екатерина</cp:lastModifiedBy>
  <dcterms:modified xsi:type="dcterms:W3CDTF">2019-07-11T09:30:58Z</dcterms:modified>
  <cp:revision>26</cp:revision>
  <dc:subject/>
  <dc:title>Слайд 1</dc:title>
</cp:coreProperties>
</file>